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3882-4A4E-442B-9D27-0FDA4204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938A-240D-4C4C-A695-83C41144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CEE9-293A-402A-A376-4F22FF62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4BDA-B806-45B7-B043-38453929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0B9B-7595-4F45-A996-B0C9BF9D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5853-2C9C-4451-82DB-1869B1CA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B7E8-4056-4144-9C84-9ABA7EC5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5288-F010-4B25-B3A6-108849F4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BA19-47CE-4857-85CA-24D313D0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424E-C58F-46AE-9F7E-224C3136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12B4-E5D5-4F35-9CB7-6A734FDB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C0C1-A340-4CFC-AFB1-CB484EAB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61C1-C17A-44B6-A011-F0451D62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A4AC-89CD-4424-BC8B-5499EA35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CC83-69B8-4490-AFCB-AE8EA8DF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7434-F92E-49C0-8D37-00EAFB18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5740-D3A3-4BB0-A70D-1069F0CE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0A3-06C6-492B-BF1C-0CAE9D35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A637-FF80-4563-9D0D-4990E54C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61A7-E4EE-4C04-B903-031F10C3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9E9B-DD34-4810-B5A6-4BB691A9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8B74-E1BA-4857-B511-BE483A15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3B51-3DC5-47E2-AB15-B374292B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3084-DD8F-47F0-B415-DF139C06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ABDB-8E7A-4BD7-BD27-02A4D37AAC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010C-1AB0-43D2-8209-4DD3D13EE3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04920" y="533520"/>
            <a:ext cx="76197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2 Dec. 7th Warm-u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 3 + (-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 -4 + (-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 28 –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call the rules for adding integ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me sig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Different sig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41880" y="4687920"/>
            <a:ext cx="2108160" cy="277920"/>
          </a:xfrm>
          <a:custGeom>
            <a:avLst/>
            <a:gdLst/>
            <a:ahLst/>
            <a:rect l="l" t="t" r="r" b="b"/>
            <a:pathLst>
              <a:path w="5855" h="770">
                <a:moveTo>
                  <a:pt x="11782" y="13370"/>
                </a:moveTo>
                <a:lnTo>
                  <a:pt x="11782" y="13370"/>
                </a:lnTo>
                <a:lnTo>
                  <a:pt x="11782" y="13370"/>
                </a:lnTo>
              </a:path>
              <a:path w="5855" h="770">
                <a:moveTo>
                  <a:pt x="11782" y="13370"/>
                </a:moveTo>
                <a:lnTo>
                  <a:pt x="11782" y="13370"/>
                </a:lnTo>
              </a:path>
              <a:path w="5855" h="770">
                <a:moveTo>
                  <a:pt x="16371" y="13022"/>
                </a:moveTo>
                <a:cubicBezTo>
                  <a:pt x="16433" y="13286"/>
                  <a:pt x="16492" y="13523"/>
                  <a:pt x="16446" y="13791"/>
                </a:cubicBezTo>
              </a:path>
              <a:path w="5855" h="770">
                <a:moveTo>
                  <a:pt x="17562" y="13022"/>
                </a:moveTo>
                <a:cubicBezTo>
                  <a:pt x="17584" y="13237"/>
                  <a:pt x="17613" y="13452"/>
                  <a:pt x="17636" y="13667"/>
                </a:cubicBezTo>
                <a:cubicBezTo>
                  <a:pt x="17636" y="13675"/>
                  <a:pt x="17636" y="13684"/>
                  <a:pt x="17636" y="136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14800" y="4749840"/>
            <a:ext cx="669960" cy="457200"/>
          </a:xfrm>
          <a:custGeom>
            <a:avLst/>
            <a:gdLst/>
            <a:ahLst/>
            <a:rect l="l" t="t" r="r" b="b"/>
            <a:pathLst>
              <a:path w="1861" h="1266">
                <a:moveTo>
                  <a:pt x="9004" y="13196"/>
                </a:moveTo>
                <a:cubicBezTo>
                  <a:pt x="9023" y="13473"/>
                  <a:pt x="8932" y="13720"/>
                  <a:pt x="8930" y="13990"/>
                </a:cubicBezTo>
                <a:cubicBezTo>
                  <a:pt x="8938" y="13965"/>
                  <a:pt x="8946" y="13940"/>
                  <a:pt x="8954" y="13915"/>
                </a:cubicBezTo>
              </a:path>
              <a:path w="1861" h="1266">
                <a:moveTo>
                  <a:pt x="9277" y="13444"/>
                </a:moveTo>
                <a:cubicBezTo>
                  <a:pt x="9104" y="13582"/>
                  <a:pt x="9162" y="13534"/>
                  <a:pt x="9004" y="13568"/>
                </a:cubicBezTo>
                <a:cubicBezTo>
                  <a:pt x="9206" y="13706"/>
                  <a:pt x="9190" y="13903"/>
                  <a:pt x="9351" y="14064"/>
                </a:cubicBezTo>
                <a:cubicBezTo>
                  <a:pt x="9475" y="14188"/>
                  <a:pt x="9702" y="13795"/>
                  <a:pt x="9723" y="13742"/>
                </a:cubicBezTo>
                <a:cubicBezTo>
                  <a:pt x="9744" y="13617"/>
                  <a:pt x="9775" y="13575"/>
                  <a:pt x="9674" y="13568"/>
                </a:cubicBezTo>
                <a:cubicBezTo>
                  <a:pt x="9530" y="13684"/>
                  <a:pt x="9338" y="13920"/>
                  <a:pt x="9599" y="14064"/>
                </a:cubicBezTo>
                <a:cubicBezTo>
                  <a:pt x="9833" y="14193"/>
                  <a:pt x="9923" y="13933"/>
                  <a:pt x="10021" y="13791"/>
                </a:cubicBezTo>
                <a:cubicBezTo>
                  <a:pt x="10021" y="13713"/>
                  <a:pt x="10036" y="13695"/>
                  <a:pt x="9996" y="13667"/>
                </a:cubicBezTo>
                <a:cubicBezTo>
                  <a:pt x="9931" y="13791"/>
                  <a:pt x="9803" y="14209"/>
                  <a:pt x="10145" y="14064"/>
                </a:cubicBezTo>
                <a:cubicBezTo>
                  <a:pt x="10267" y="14012"/>
                  <a:pt x="10421" y="13644"/>
                  <a:pt x="10418" y="13742"/>
                </a:cubicBezTo>
                <a:cubicBezTo>
                  <a:pt x="10415" y="13849"/>
                  <a:pt x="10452" y="14404"/>
                  <a:pt x="10368" y="14461"/>
                </a:cubicBezTo>
                <a:cubicBezTo>
                  <a:pt x="10368" y="14436"/>
                  <a:pt x="10368" y="14412"/>
                  <a:pt x="10368" y="14387"/>
                </a:cubicBezTo>
                <a:cubicBezTo>
                  <a:pt x="10359" y="13967"/>
                  <a:pt x="10355" y="13742"/>
                  <a:pt x="10666" y="13469"/>
                </a:cubicBezTo>
                <a:cubicBezTo>
                  <a:pt x="10785" y="13648"/>
                  <a:pt x="10857" y="13976"/>
                  <a:pt x="10492" y="13990"/>
                </a:cubicBezTo>
                <a:cubicBezTo>
                  <a:pt x="10451" y="13973"/>
                  <a:pt x="10409" y="13957"/>
                  <a:pt x="10368" y="139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27320" y="4857840"/>
            <a:ext cx="679680" cy="322200"/>
          </a:xfrm>
          <a:custGeom>
            <a:avLst/>
            <a:gdLst/>
            <a:ahLst/>
            <a:rect l="l" t="t" r="r" b="b"/>
            <a:pathLst>
              <a:path w="1886" h="894">
                <a:moveTo>
                  <a:pt x="11559" y="13494"/>
                </a:moveTo>
                <a:cubicBezTo>
                  <a:pt x="11421" y="13507"/>
                  <a:pt x="11352" y="13516"/>
                  <a:pt x="11237" y="13593"/>
                </a:cubicBezTo>
                <a:cubicBezTo>
                  <a:pt x="11402" y="13612"/>
                  <a:pt x="11482" y="13674"/>
                  <a:pt x="11584" y="13791"/>
                </a:cubicBezTo>
                <a:cubicBezTo>
                  <a:pt x="11512" y="13876"/>
                  <a:pt x="11237" y="14091"/>
                  <a:pt x="11187" y="13841"/>
                </a:cubicBezTo>
                <a:cubicBezTo>
                  <a:pt x="11195" y="13816"/>
                  <a:pt x="11204" y="13792"/>
                  <a:pt x="11212" y="13767"/>
                </a:cubicBezTo>
              </a:path>
              <a:path w="1886" h="894">
                <a:moveTo>
                  <a:pt x="11832" y="13568"/>
                </a:moveTo>
                <a:cubicBezTo>
                  <a:pt x="11798" y="13670"/>
                  <a:pt x="11807" y="13798"/>
                  <a:pt x="11807" y="13915"/>
                </a:cubicBezTo>
              </a:path>
              <a:path w="1886" h="894">
                <a:moveTo>
                  <a:pt x="12378" y="13543"/>
                </a:moveTo>
                <a:cubicBezTo>
                  <a:pt x="12312" y="13569"/>
                  <a:pt x="11888" y="13802"/>
                  <a:pt x="12154" y="13891"/>
                </a:cubicBezTo>
                <a:cubicBezTo>
                  <a:pt x="12287" y="13935"/>
                  <a:pt x="12357" y="13721"/>
                  <a:pt x="12402" y="13643"/>
                </a:cubicBezTo>
                <a:cubicBezTo>
                  <a:pt x="12495" y="13857"/>
                  <a:pt x="12581" y="14118"/>
                  <a:pt x="12378" y="14312"/>
                </a:cubicBezTo>
                <a:cubicBezTo>
                  <a:pt x="12037" y="14638"/>
                  <a:pt x="12001" y="14225"/>
                  <a:pt x="12080" y="14015"/>
                </a:cubicBezTo>
              </a:path>
              <a:path w="1886" h="894">
                <a:moveTo>
                  <a:pt x="12675" y="13643"/>
                </a:moveTo>
                <a:cubicBezTo>
                  <a:pt x="12675" y="13750"/>
                  <a:pt x="12675" y="13858"/>
                  <a:pt x="12675" y="13965"/>
                </a:cubicBezTo>
                <a:cubicBezTo>
                  <a:pt x="12675" y="13785"/>
                  <a:pt x="12699" y="13689"/>
                  <a:pt x="12799" y="13543"/>
                </a:cubicBezTo>
                <a:cubicBezTo>
                  <a:pt x="13022" y="13599"/>
                  <a:pt x="13061" y="13653"/>
                  <a:pt x="13072" y="13891"/>
                </a:cubicBezTo>
                <a:cubicBezTo>
                  <a:pt x="13072" y="13899"/>
                  <a:pt x="13072" y="13907"/>
                  <a:pt x="13072" y="139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46760" y="4687920"/>
            <a:ext cx="428400" cy="250920"/>
          </a:xfrm>
          <a:custGeom>
            <a:avLst/>
            <a:gdLst/>
            <a:ahLst/>
            <a:rect l="l" t="t" r="r" b="b"/>
            <a:pathLst>
              <a:path w="1191" h="696">
                <a:moveTo>
                  <a:pt x="14114" y="13519"/>
                </a:moveTo>
                <a:cubicBezTo>
                  <a:pt x="14004" y="13492"/>
                  <a:pt x="13961" y="13320"/>
                  <a:pt x="13816" y="13419"/>
                </a:cubicBezTo>
                <a:cubicBezTo>
                  <a:pt x="13659" y="13527"/>
                  <a:pt x="13768" y="13636"/>
                  <a:pt x="13841" y="13717"/>
                </a:cubicBezTo>
                <a:cubicBezTo>
                  <a:pt x="13953" y="13614"/>
                  <a:pt x="13927" y="13580"/>
                  <a:pt x="14039" y="13593"/>
                </a:cubicBezTo>
                <a:cubicBezTo>
                  <a:pt x="14185" y="13609"/>
                  <a:pt x="14230" y="13548"/>
                  <a:pt x="14288" y="13692"/>
                </a:cubicBezTo>
                <a:cubicBezTo>
                  <a:pt x="14288" y="13591"/>
                  <a:pt x="14284" y="13320"/>
                  <a:pt x="14486" y="13419"/>
                </a:cubicBezTo>
                <a:cubicBezTo>
                  <a:pt x="14555" y="13453"/>
                  <a:pt x="14600" y="13722"/>
                  <a:pt x="14610" y="13717"/>
                </a:cubicBezTo>
                <a:cubicBezTo>
                  <a:pt x="14643" y="13692"/>
                  <a:pt x="14676" y="13668"/>
                  <a:pt x="14709" y="13643"/>
                </a:cubicBezTo>
              </a:path>
              <a:path w="1191" h="696">
                <a:moveTo>
                  <a:pt x="14808" y="13419"/>
                </a:moveTo>
                <a:cubicBezTo>
                  <a:pt x="14597" y="13405"/>
                  <a:pt x="14573" y="13467"/>
                  <a:pt x="14585" y="13667"/>
                </a:cubicBezTo>
                <a:cubicBezTo>
                  <a:pt x="14876" y="13650"/>
                  <a:pt x="14892" y="13428"/>
                  <a:pt x="14883" y="13146"/>
                </a:cubicBezTo>
                <a:cubicBezTo>
                  <a:pt x="14875" y="13105"/>
                  <a:pt x="14866" y="13063"/>
                  <a:pt x="14858" y="13022"/>
                </a:cubicBezTo>
                <a:cubicBezTo>
                  <a:pt x="14868" y="13212"/>
                  <a:pt x="14842" y="13513"/>
                  <a:pt x="14908" y="13692"/>
                </a:cubicBezTo>
                <a:cubicBezTo>
                  <a:pt x="14916" y="13684"/>
                  <a:pt x="14924" y="13675"/>
                  <a:pt x="14932" y="13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16720" y="4643280"/>
            <a:ext cx="500040" cy="330480"/>
          </a:xfrm>
          <a:custGeom>
            <a:avLst/>
            <a:gdLst/>
            <a:ahLst/>
            <a:rect l="l" t="t" r="r" b="b"/>
            <a:pathLst>
              <a:path w="1390" h="919">
                <a:moveTo>
                  <a:pt x="15999" y="13469"/>
                </a:moveTo>
                <a:cubicBezTo>
                  <a:pt x="15930" y="13331"/>
                  <a:pt x="15862" y="13320"/>
                  <a:pt x="15726" y="13320"/>
                </a:cubicBezTo>
                <a:cubicBezTo>
                  <a:pt x="15683" y="13414"/>
                  <a:pt x="15448" y="13919"/>
                  <a:pt x="15751" y="13816"/>
                </a:cubicBezTo>
                <a:cubicBezTo>
                  <a:pt x="15943" y="13751"/>
                  <a:pt x="15907" y="13590"/>
                  <a:pt x="15900" y="13444"/>
                </a:cubicBezTo>
                <a:cubicBezTo>
                  <a:pt x="15900" y="13323"/>
                  <a:pt x="15940" y="13636"/>
                  <a:pt x="15999" y="13742"/>
                </a:cubicBezTo>
                <a:cubicBezTo>
                  <a:pt x="16024" y="13767"/>
                  <a:pt x="16048" y="13791"/>
                  <a:pt x="16073" y="13816"/>
                </a:cubicBezTo>
              </a:path>
              <a:path w="1390" h="919">
                <a:moveTo>
                  <a:pt x="16396" y="13494"/>
                </a:moveTo>
                <a:cubicBezTo>
                  <a:pt x="16377" y="13419"/>
                  <a:pt x="16366" y="13414"/>
                  <a:pt x="16297" y="13370"/>
                </a:cubicBezTo>
                <a:cubicBezTo>
                  <a:pt x="16096" y="13490"/>
                  <a:pt x="16101" y="13591"/>
                  <a:pt x="16173" y="13816"/>
                </a:cubicBezTo>
                <a:cubicBezTo>
                  <a:pt x="16432" y="13751"/>
                  <a:pt x="16378" y="13739"/>
                  <a:pt x="16446" y="13469"/>
                </a:cubicBezTo>
              </a:path>
              <a:path w="1390" h="919">
                <a:moveTo>
                  <a:pt x="16842" y="13494"/>
                </a:moveTo>
                <a:cubicBezTo>
                  <a:pt x="16919" y="13443"/>
                  <a:pt x="16814" y="13350"/>
                  <a:pt x="16768" y="13295"/>
                </a:cubicBezTo>
                <a:cubicBezTo>
                  <a:pt x="16526" y="13408"/>
                  <a:pt x="16577" y="13544"/>
                  <a:pt x="16619" y="13791"/>
                </a:cubicBezTo>
                <a:cubicBezTo>
                  <a:pt x="16875" y="13776"/>
                  <a:pt x="16806" y="13732"/>
                  <a:pt x="16892" y="13469"/>
                </a:cubicBezTo>
              </a:path>
              <a:path w="1390" h="919">
                <a:moveTo>
                  <a:pt x="16793" y="12923"/>
                </a:moveTo>
                <a:cubicBezTo>
                  <a:pt x="16850" y="12952"/>
                  <a:pt x="16935" y="13382"/>
                  <a:pt x="16966" y="13519"/>
                </a:cubicBezTo>
                <a:cubicBezTo>
                  <a:pt x="16985" y="13634"/>
                  <a:pt x="16994" y="13650"/>
                  <a:pt x="16991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59680" y="4670280"/>
            <a:ext cx="455400" cy="223920"/>
          </a:xfrm>
          <a:custGeom>
            <a:avLst/>
            <a:gdLst/>
            <a:ahLst/>
            <a:rect l="l" t="t" r="r" b="b"/>
            <a:pathLst>
              <a:path w="1266" h="621">
                <a:moveTo>
                  <a:pt x="17388" y="13444"/>
                </a:moveTo>
                <a:cubicBezTo>
                  <a:pt x="17629" y="13517"/>
                  <a:pt x="17736" y="13511"/>
                  <a:pt x="17835" y="13246"/>
                </a:cubicBezTo>
                <a:cubicBezTo>
                  <a:pt x="17874" y="13089"/>
                  <a:pt x="17890" y="13067"/>
                  <a:pt x="17884" y="12973"/>
                </a:cubicBezTo>
                <a:cubicBezTo>
                  <a:pt x="17928" y="13164"/>
                  <a:pt x="17954" y="13370"/>
                  <a:pt x="18033" y="13543"/>
                </a:cubicBezTo>
                <a:cubicBezTo>
                  <a:pt x="18013" y="13485"/>
                  <a:pt x="17964" y="13232"/>
                  <a:pt x="18008" y="13271"/>
                </a:cubicBezTo>
                <a:cubicBezTo>
                  <a:pt x="18081" y="13335"/>
                  <a:pt x="18167" y="13761"/>
                  <a:pt x="18331" y="13519"/>
                </a:cubicBezTo>
                <a:cubicBezTo>
                  <a:pt x="18379" y="13372"/>
                  <a:pt x="18395" y="13324"/>
                  <a:pt x="18405" y="13221"/>
                </a:cubicBezTo>
                <a:cubicBezTo>
                  <a:pt x="18356" y="13337"/>
                  <a:pt x="18261" y="13481"/>
                  <a:pt x="18455" y="13593"/>
                </a:cubicBezTo>
                <a:cubicBezTo>
                  <a:pt x="18562" y="13593"/>
                  <a:pt x="18602" y="13588"/>
                  <a:pt x="18653" y="135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91040" y="5054760"/>
            <a:ext cx="974880" cy="223560"/>
          </a:xfrm>
          <a:custGeom>
            <a:avLst/>
            <a:gdLst/>
            <a:ahLst/>
            <a:rect l="l" t="t" r="r" b="b"/>
            <a:pathLst>
              <a:path w="2705" h="622">
                <a:moveTo>
                  <a:pt x="14238" y="14362"/>
                </a:moveTo>
                <a:cubicBezTo>
                  <a:pt x="14214" y="14289"/>
                  <a:pt x="14124" y="14130"/>
                  <a:pt x="14015" y="14163"/>
                </a:cubicBezTo>
                <a:cubicBezTo>
                  <a:pt x="13774" y="14236"/>
                  <a:pt x="13890" y="14493"/>
                  <a:pt x="13990" y="14585"/>
                </a:cubicBezTo>
                <a:cubicBezTo>
                  <a:pt x="14129" y="14505"/>
                  <a:pt x="14141" y="14466"/>
                  <a:pt x="14163" y="14288"/>
                </a:cubicBezTo>
                <a:cubicBezTo>
                  <a:pt x="14165" y="14316"/>
                  <a:pt x="14216" y="14671"/>
                  <a:pt x="14312" y="14560"/>
                </a:cubicBezTo>
                <a:cubicBezTo>
                  <a:pt x="14421" y="14434"/>
                  <a:pt x="14355" y="14232"/>
                  <a:pt x="14337" y="14089"/>
                </a:cubicBezTo>
                <a:cubicBezTo>
                  <a:pt x="14377" y="14223"/>
                  <a:pt x="14416" y="14354"/>
                  <a:pt x="14461" y="14486"/>
                </a:cubicBezTo>
                <a:cubicBezTo>
                  <a:pt x="14468" y="14449"/>
                  <a:pt x="14532" y="14025"/>
                  <a:pt x="14684" y="14238"/>
                </a:cubicBezTo>
                <a:cubicBezTo>
                  <a:pt x="14793" y="14390"/>
                  <a:pt x="14634" y="14552"/>
                  <a:pt x="14486" y="14560"/>
                </a:cubicBezTo>
                <a:cubicBezTo>
                  <a:pt x="14478" y="14552"/>
                  <a:pt x="14469" y="14544"/>
                  <a:pt x="14461" y="14536"/>
                </a:cubicBezTo>
              </a:path>
              <a:path w="2705" h="622">
                <a:moveTo>
                  <a:pt x="14908" y="14188"/>
                </a:moveTo>
                <a:cubicBezTo>
                  <a:pt x="14861" y="14216"/>
                  <a:pt x="14806" y="14281"/>
                  <a:pt x="14784" y="14337"/>
                </a:cubicBezTo>
                <a:cubicBezTo>
                  <a:pt x="14864" y="14352"/>
                  <a:pt x="15119" y="14381"/>
                  <a:pt x="15032" y="14511"/>
                </a:cubicBezTo>
                <a:cubicBezTo>
                  <a:pt x="14962" y="14616"/>
                  <a:pt x="14857" y="14569"/>
                  <a:pt x="14784" y="14536"/>
                </a:cubicBezTo>
              </a:path>
              <a:path w="2705" h="622">
                <a:moveTo>
                  <a:pt x="15205" y="14288"/>
                </a:moveTo>
                <a:cubicBezTo>
                  <a:pt x="15178" y="14401"/>
                  <a:pt x="15165" y="14474"/>
                  <a:pt x="15180" y="14585"/>
                </a:cubicBezTo>
                <a:cubicBezTo>
                  <a:pt x="15344" y="14564"/>
                  <a:pt x="15448" y="14478"/>
                  <a:pt x="15280" y="14312"/>
                </a:cubicBezTo>
                <a:cubicBezTo>
                  <a:pt x="15255" y="14304"/>
                  <a:pt x="15230" y="14296"/>
                  <a:pt x="15205" y="14288"/>
                </a:cubicBezTo>
              </a:path>
              <a:path w="2705" h="622">
                <a:moveTo>
                  <a:pt x="15478" y="14039"/>
                </a:moveTo>
                <a:cubicBezTo>
                  <a:pt x="15498" y="14214"/>
                  <a:pt x="15521" y="14383"/>
                  <a:pt x="15528" y="14560"/>
                </a:cubicBezTo>
              </a:path>
              <a:path w="2705" h="622">
                <a:moveTo>
                  <a:pt x="15677" y="14238"/>
                </a:moveTo>
                <a:cubicBezTo>
                  <a:pt x="15676" y="14257"/>
                  <a:pt x="15623" y="14763"/>
                  <a:pt x="15801" y="14585"/>
                </a:cubicBezTo>
                <a:cubicBezTo>
                  <a:pt x="15861" y="14525"/>
                  <a:pt x="15875" y="14277"/>
                  <a:pt x="15875" y="14387"/>
                </a:cubicBezTo>
                <a:cubicBezTo>
                  <a:pt x="15897" y="14516"/>
                  <a:pt x="15893" y="14548"/>
                  <a:pt x="15949" y="14610"/>
                </a:cubicBezTo>
                <a:cubicBezTo>
                  <a:pt x="16141" y="14508"/>
                  <a:pt x="16178" y="14347"/>
                  <a:pt x="16148" y="14114"/>
                </a:cubicBezTo>
                <a:cubicBezTo>
                  <a:pt x="16140" y="14106"/>
                  <a:pt x="16131" y="14097"/>
                  <a:pt x="16123" y="14089"/>
                </a:cubicBezTo>
                <a:cubicBezTo>
                  <a:pt x="16137" y="14285"/>
                  <a:pt x="16177" y="14469"/>
                  <a:pt x="16222" y="14660"/>
                </a:cubicBezTo>
              </a:path>
              <a:path w="2705" h="622">
                <a:moveTo>
                  <a:pt x="16123" y="14312"/>
                </a:moveTo>
                <a:cubicBezTo>
                  <a:pt x="16262" y="14312"/>
                  <a:pt x="16402" y="14283"/>
                  <a:pt x="16520" y="14362"/>
                </a:cubicBezTo>
                <a:cubicBezTo>
                  <a:pt x="16513" y="14314"/>
                  <a:pt x="16474" y="14092"/>
                  <a:pt x="16396" y="14238"/>
                </a:cubicBezTo>
                <a:cubicBezTo>
                  <a:pt x="16278" y="14461"/>
                  <a:pt x="16345" y="14599"/>
                  <a:pt x="16570" y="145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61040" y="5010120"/>
            <a:ext cx="777960" cy="241200"/>
          </a:xfrm>
          <a:custGeom>
            <a:avLst/>
            <a:gdLst/>
            <a:ahLst/>
            <a:rect l="l" t="t" r="r" b="b"/>
            <a:pathLst>
              <a:path w="2159" h="671">
                <a:moveTo>
                  <a:pt x="17115" y="14114"/>
                </a:moveTo>
                <a:cubicBezTo>
                  <a:pt x="17174" y="14311"/>
                  <a:pt x="17224" y="14430"/>
                  <a:pt x="17363" y="14585"/>
                </a:cubicBezTo>
                <a:cubicBezTo>
                  <a:pt x="17373" y="14443"/>
                  <a:pt x="17387" y="14289"/>
                  <a:pt x="17438" y="14163"/>
                </a:cubicBezTo>
              </a:path>
              <a:path w="2159" h="671">
                <a:moveTo>
                  <a:pt x="17711" y="14139"/>
                </a:moveTo>
                <a:cubicBezTo>
                  <a:pt x="17553" y="14271"/>
                  <a:pt x="17486" y="14345"/>
                  <a:pt x="17537" y="14536"/>
                </a:cubicBezTo>
                <a:cubicBezTo>
                  <a:pt x="17688" y="14451"/>
                  <a:pt x="17703" y="14408"/>
                  <a:pt x="17760" y="14238"/>
                </a:cubicBezTo>
                <a:cubicBezTo>
                  <a:pt x="17760" y="14371"/>
                  <a:pt x="17776" y="14544"/>
                  <a:pt x="17909" y="14536"/>
                </a:cubicBezTo>
                <a:cubicBezTo>
                  <a:pt x="17917" y="14511"/>
                  <a:pt x="17926" y="14486"/>
                  <a:pt x="17934" y="14461"/>
                </a:cubicBezTo>
              </a:path>
              <a:path w="2159" h="671">
                <a:moveTo>
                  <a:pt x="17959" y="13915"/>
                </a:moveTo>
                <a:cubicBezTo>
                  <a:pt x="18004" y="14120"/>
                  <a:pt x="18039" y="14324"/>
                  <a:pt x="18058" y="14536"/>
                </a:cubicBezTo>
                <a:cubicBezTo>
                  <a:pt x="18058" y="14580"/>
                  <a:pt x="18055" y="14600"/>
                  <a:pt x="18083" y="14560"/>
                </a:cubicBezTo>
              </a:path>
              <a:path w="2159" h="671">
                <a:moveTo>
                  <a:pt x="18207" y="14139"/>
                </a:moveTo>
                <a:cubicBezTo>
                  <a:pt x="18214" y="14200"/>
                  <a:pt x="18202" y="14481"/>
                  <a:pt x="18256" y="14511"/>
                </a:cubicBezTo>
                <a:cubicBezTo>
                  <a:pt x="18391" y="14586"/>
                  <a:pt x="18398" y="14261"/>
                  <a:pt x="18405" y="14213"/>
                </a:cubicBezTo>
                <a:cubicBezTo>
                  <a:pt x="18391" y="14310"/>
                  <a:pt x="18369" y="14484"/>
                  <a:pt x="18455" y="14560"/>
                </a:cubicBezTo>
                <a:cubicBezTo>
                  <a:pt x="18463" y="14560"/>
                  <a:pt x="18471" y="14560"/>
                  <a:pt x="18479" y="14560"/>
                </a:cubicBezTo>
              </a:path>
              <a:path w="2159" h="671">
                <a:moveTo>
                  <a:pt x="18678" y="14213"/>
                </a:moveTo>
                <a:cubicBezTo>
                  <a:pt x="18714" y="14235"/>
                  <a:pt x="18793" y="14254"/>
                  <a:pt x="18827" y="14213"/>
                </a:cubicBezTo>
                <a:cubicBezTo>
                  <a:pt x="18827" y="14205"/>
                  <a:pt x="18827" y="14196"/>
                  <a:pt x="18827" y="14188"/>
                </a:cubicBezTo>
                <a:cubicBezTo>
                  <a:pt x="18730" y="14140"/>
                  <a:pt x="18655" y="14124"/>
                  <a:pt x="18628" y="14263"/>
                </a:cubicBezTo>
                <a:cubicBezTo>
                  <a:pt x="18577" y="14526"/>
                  <a:pt x="18821" y="14423"/>
                  <a:pt x="18926" y="14362"/>
                </a:cubicBezTo>
              </a:path>
              <a:path w="2159" h="671">
                <a:moveTo>
                  <a:pt x="19149" y="14139"/>
                </a:moveTo>
                <a:cubicBezTo>
                  <a:pt x="19088" y="14154"/>
                  <a:pt x="19057" y="14177"/>
                  <a:pt x="19000" y="14213"/>
                </a:cubicBezTo>
                <a:cubicBezTo>
                  <a:pt x="19086" y="14233"/>
                  <a:pt x="19389" y="14262"/>
                  <a:pt x="19224" y="14412"/>
                </a:cubicBezTo>
                <a:cubicBezTo>
                  <a:pt x="19127" y="14460"/>
                  <a:pt x="19096" y="14477"/>
                  <a:pt x="19025" y="144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5320" y="5769000"/>
            <a:ext cx="6161400" cy="554040"/>
          </a:xfrm>
          <a:custGeom>
            <a:avLst/>
            <a:gdLst/>
            <a:ahLst/>
            <a:rect l="l" t="t" r="r" b="b"/>
            <a:pathLst>
              <a:path w="17116" h="1539">
                <a:moveTo>
                  <a:pt x="4986" y="16321"/>
                </a:moveTo>
                <a:lnTo>
                  <a:pt x="4986" y="16321"/>
                </a:lnTo>
              </a:path>
              <a:path w="17116" h="1539">
                <a:moveTo>
                  <a:pt x="19819" y="16297"/>
                </a:moveTo>
                <a:cubicBezTo>
                  <a:pt x="19819" y="16447"/>
                  <a:pt x="19813" y="16482"/>
                  <a:pt x="19844" y="16570"/>
                </a:cubicBezTo>
              </a:path>
              <a:path w="17116" h="1539">
                <a:moveTo>
                  <a:pt x="19844" y="16570"/>
                </a:moveTo>
                <a:lnTo>
                  <a:pt x="19844" y="16570"/>
                </a:lnTo>
              </a:path>
              <a:path w="17116" h="1539">
                <a:moveTo>
                  <a:pt x="19745" y="16024"/>
                </a:moveTo>
                <a:cubicBezTo>
                  <a:pt x="19745" y="16032"/>
                  <a:pt x="19745" y="16041"/>
                  <a:pt x="19745" y="16049"/>
                </a:cubicBezTo>
              </a:path>
              <a:path w="17116" h="1539">
                <a:moveTo>
                  <a:pt x="21630" y="16049"/>
                </a:moveTo>
                <a:cubicBezTo>
                  <a:pt x="21800" y="16064"/>
                  <a:pt x="21935" y="16077"/>
                  <a:pt x="22101" y="16049"/>
                </a:cubicBezTo>
              </a:path>
              <a:path w="17116" h="1539">
                <a:moveTo>
                  <a:pt x="10567" y="17041"/>
                </a:moveTo>
                <a:cubicBezTo>
                  <a:pt x="10595" y="17151"/>
                  <a:pt x="10627" y="17493"/>
                  <a:pt x="10740" y="17562"/>
                </a:cubicBezTo>
                <a:cubicBezTo>
                  <a:pt x="10740" y="17554"/>
                  <a:pt x="10740" y="17545"/>
                  <a:pt x="10740" y="17537"/>
                </a:cubicBezTo>
              </a:path>
              <a:path w="17116" h="1539">
                <a:moveTo>
                  <a:pt x="10765" y="17140"/>
                </a:moveTo>
                <a:cubicBezTo>
                  <a:pt x="10809" y="17272"/>
                  <a:pt x="10811" y="17403"/>
                  <a:pt x="10840" y="175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87680" y="5786280"/>
            <a:ext cx="1187280" cy="322560"/>
          </a:xfrm>
          <a:custGeom>
            <a:avLst/>
            <a:gdLst/>
            <a:ahLst/>
            <a:rect l="l" t="t" r="r" b="b"/>
            <a:pathLst>
              <a:path w="3300" h="894">
                <a:moveTo>
                  <a:pt x="5060" y="16321"/>
                </a:moveTo>
                <a:cubicBezTo>
                  <a:pt x="5049" y="16321"/>
                  <a:pt x="4944" y="16321"/>
                  <a:pt x="5011" y="16321"/>
                </a:cubicBezTo>
              </a:path>
              <a:path w="3300" h="894">
                <a:moveTo>
                  <a:pt x="4986" y="16321"/>
                </a:moveTo>
                <a:cubicBezTo>
                  <a:pt x="4936" y="16309"/>
                  <a:pt x="4886" y="16291"/>
                  <a:pt x="4837" y="16346"/>
                </a:cubicBezTo>
                <a:cubicBezTo>
                  <a:pt x="4807" y="16380"/>
                  <a:pt x="4772" y="16451"/>
                  <a:pt x="4738" y="16495"/>
                </a:cubicBezTo>
                <a:cubicBezTo>
                  <a:pt x="4814" y="16534"/>
                  <a:pt x="4901" y="16505"/>
                  <a:pt x="4986" y="16545"/>
                </a:cubicBezTo>
                <a:cubicBezTo>
                  <a:pt x="5135" y="16616"/>
                  <a:pt x="5051" y="16779"/>
                  <a:pt x="4936" y="16842"/>
                </a:cubicBezTo>
                <a:cubicBezTo>
                  <a:pt x="4854" y="16887"/>
                  <a:pt x="4701" y="16818"/>
                  <a:pt x="4688" y="16842"/>
                </a:cubicBezTo>
                <a:cubicBezTo>
                  <a:pt x="4879" y="16971"/>
                  <a:pt x="4883" y="16914"/>
                  <a:pt x="5035" y="16743"/>
                </a:cubicBezTo>
              </a:path>
              <a:path w="3300" h="894">
                <a:moveTo>
                  <a:pt x="5110" y="16446"/>
                </a:moveTo>
                <a:cubicBezTo>
                  <a:pt x="5110" y="16563"/>
                  <a:pt x="5105" y="16711"/>
                  <a:pt x="5159" y="16818"/>
                </a:cubicBezTo>
                <a:cubicBezTo>
                  <a:pt x="5176" y="16834"/>
                  <a:pt x="5192" y="16851"/>
                  <a:pt x="5209" y="16867"/>
                </a:cubicBezTo>
                <a:cubicBezTo>
                  <a:pt x="5367" y="16814"/>
                  <a:pt x="5419" y="16780"/>
                  <a:pt x="5407" y="16594"/>
                </a:cubicBezTo>
                <a:cubicBezTo>
                  <a:pt x="5389" y="16500"/>
                  <a:pt x="5403" y="16480"/>
                  <a:pt x="5358" y="16446"/>
                </a:cubicBezTo>
                <a:cubicBezTo>
                  <a:pt x="5416" y="16522"/>
                  <a:pt x="5458" y="16764"/>
                  <a:pt x="5507" y="16892"/>
                </a:cubicBezTo>
                <a:cubicBezTo>
                  <a:pt x="5531" y="16942"/>
                  <a:pt x="5539" y="16959"/>
                  <a:pt x="5556" y="16892"/>
                </a:cubicBezTo>
              </a:path>
              <a:path w="3300" h="894">
                <a:moveTo>
                  <a:pt x="5457" y="16247"/>
                </a:moveTo>
                <a:cubicBezTo>
                  <a:pt x="5530" y="16454"/>
                  <a:pt x="5608" y="16659"/>
                  <a:pt x="5680" y="16867"/>
                </a:cubicBezTo>
                <a:cubicBezTo>
                  <a:pt x="5749" y="16960"/>
                  <a:pt x="5628" y="16710"/>
                  <a:pt x="5655" y="16619"/>
                </a:cubicBezTo>
                <a:cubicBezTo>
                  <a:pt x="5680" y="16586"/>
                  <a:pt x="5705" y="16553"/>
                  <a:pt x="5730" y="16520"/>
                </a:cubicBezTo>
                <a:cubicBezTo>
                  <a:pt x="5890" y="16554"/>
                  <a:pt x="6088" y="16669"/>
                  <a:pt x="5904" y="16867"/>
                </a:cubicBezTo>
                <a:cubicBezTo>
                  <a:pt x="5798" y="16981"/>
                  <a:pt x="5727" y="16907"/>
                  <a:pt x="5655" y="16842"/>
                </a:cubicBezTo>
              </a:path>
              <a:path w="3300" h="894">
                <a:moveTo>
                  <a:pt x="5928" y="16247"/>
                </a:moveTo>
                <a:cubicBezTo>
                  <a:pt x="5990" y="16433"/>
                  <a:pt x="6071" y="16626"/>
                  <a:pt x="6127" y="16818"/>
                </a:cubicBezTo>
                <a:cubicBezTo>
                  <a:pt x="6146" y="16912"/>
                  <a:pt x="6132" y="16931"/>
                  <a:pt x="6176" y="16966"/>
                </a:cubicBezTo>
              </a:path>
              <a:path w="3300" h="894">
                <a:moveTo>
                  <a:pt x="5829" y="16594"/>
                </a:moveTo>
                <a:cubicBezTo>
                  <a:pt x="5973" y="16577"/>
                  <a:pt x="6126" y="16517"/>
                  <a:pt x="6276" y="16520"/>
                </a:cubicBezTo>
                <a:cubicBezTo>
                  <a:pt x="6397" y="16523"/>
                  <a:pt x="6472" y="16661"/>
                  <a:pt x="6499" y="16768"/>
                </a:cubicBezTo>
                <a:cubicBezTo>
                  <a:pt x="6499" y="16785"/>
                  <a:pt x="6499" y="16801"/>
                  <a:pt x="6499" y="16818"/>
                </a:cubicBezTo>
                <a:cubicBezTo>
                  <a:pt x="6413" y="16699"/>
                  <a:pt x="6402" y="16645"/>
                  <a:pt x="6474" y="16520"/>
                </a:cubicBezTo>
                <a:cubicBezTo>
                  <a:pt x="6558" y="16375"/>
                  <a:pt x="6670" y="16420"/>
                  <a:pt x="6796" y="16470"/>
                </a:cubicBezTo>
                <a:cubicBezTo>
                  <a:pt x="6838" y="16487"/>
                  <a:pt x="6879" y="16503"/>
                  <a:pt x="6921" y="16520"/>
                </a:cubicBezTo>
              </a:path>
              <a:path w="3300" h="894">
                <a:moveTo>
                  <a:pt x="7020" y="16619"/>
                </a:moveTo>
                <a:cubicBezTo>
                  <a:pt x="6998" y="16541"/>
                  <a:pt x="6975" y="16518"/>
                  <a:pt x="6921" y="16470"/>
                </a:cubicBezTo>
                <a:cubicBezTo>
                  <a:pt x="6763" y="16556"/>
                  <a:pt x="6778" y="16700"/>
                  <a:pt x="6796" y="16892"/>
                </a:cubicBezTo>
                <a:cubicBezTo>
                  <a:pt x="7000" y="16892"/>
                  <a:pt x="7030" y="16828"/>
                  <a:pt x="6995" y="16619"/>
                </a:cubicBezTo>
                <a:cubicBezTo>
                  <a:pt x="6995" y="16627"/>
                  <a:pt x="6995" y="16636"/>
                  <a:pt x="6995" y="16644"/>
                </a:cubicBezTo>
                <a:cubicBezTo>
                  <a:pt x="7016" y="16683"/>
                  <a:pt x="7097" y="16871"/>
                  <a:pt x="7169" y="16818"/>
                </a:cubicBezTo>
                <a:cubicBezTo>
                  <a:pt x="7185" y="16793"/>
                  <a:pt x="7202" y="16768"/>
                  <a:pt x="7218" y="16743"/>
                </a:cubicBezTo>
              </a:path>
              <a:path w="3300" h="894">
                <a:moveTo>
                  <a:pt x="7392" y="16520"/>
                </a:moveTo>
                <a:cubicBezTo>
                  <a:pt x="7415" y="16543"/>
                  <a:pt x="7423" y="16547"/>
                  <a:pt x="7417" y="16570"/>
                </a:cubicBezTo>
                <a:cubicBezTo>
                  <a:pt x="7417" y="16482"/>
                  <a:pt x="7372" y="16480"/>
                  <a:pt x="7317" y="16446"/>
                </a:cubicBezTo>
                <a:cubicBezTo>
                  <a:pt x="7226" y="16389"/>
                  <a:pt x="7186" y="16769"/>
                  <a:pt x="7243" y="16842"/>
                </a:cubicBezTo>
                <a:cubicBezTo>
                  <a:pt x="7405" y="17052"/>
                  <a:pt x="7630" y="16722"/>
                  <a:pt x="7689" y="16619"/>
                </a:cubicBezTo>
              </a:path>
              <a:path w="3300" h="894">
                <a:moveTo>
                  <a:pt x="7541" y="16073"/>
                </a:moveTo>
                <a:cubicBezTo>
                  <a:pt x="7631" y="16290"/>
                  <a:pt x="7637" y="16492"/>
                  <a:pt x="7689" y="16718"/>
                </a:cubicBezTo>
                <a:cubicBezTo>
                  <a:pt x="7715" y="16832"/>
                  <a:pt x="7895" y="16795"/>
                  <a:pt x="7962" y="16743"/>
                </a:cubicBezTo>
                <a:cubicBezTo>
                  <a:pt x="7986" y="16695"/>
                  <a:pt x="7995" y="16681"/>
                  <a:pt x="7987" y="16644"/>
                </a:cubicBezTo>
              </a:path>
              <a:path w="3300" h="894">
                <a:moveTo>
                  <a:pt x="7516" y="16446"/>
                </a:moveTo>
                <a:cubicBezTo>
                  <a:pt x="7642" y="16391"/>
                  <a:pt x="7769" y="16379"/>
                  <a:pt x="7913" y="16371"/>
                </a:cubicBezTo>
                <a:cubicBezTo>
                  <a:pt x="7982" y="16367"/>
                  <a:pt x="7831" y="16402"/>
                  <a:pt x="7764" y="164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16160" y="5803920"/>
            <a:ext cx="312840" cy="241200"/>
          </a:xfrm>
          <a:custGeom>
            <a:avLst/>
            <a:gdLst/>
            <a:ahLst/>
            <a:rect l="l" t="t" r="r" b="b"/>
            <a:pathLst>
              <a:path w="869" h="671">
                <a:moveTo>
                  <a:pt x="8781" y="16148"/>
                </a:moveTo>
                <a:cubicBezTo>
                  <a:pt x="8876" y="16180"/>
                  <a:pt x="8888" y="16405"/>
                  <a:pt x="8905" y="16495"/>
                </a:cubicBezTo>
                <a:cubicBezTo>
                  <a:pt x="8924" y="16611"/>
                  <a:pt x="8933" y="16627"/>
                  <a:pt x="8930" y="16694"/>
                </a:cubicBezTo>
              </a:path>
              <a:path w="869" h="671">
                <a:moveTo>
                  <a:pt x="8657" y="16470"/>
                </a:moveTo>
                <a:cubicBezTo>
                  <a:pt x="8741" y="16513"/>
                  <a:pt x="8860" y="16611"/>
                  <a:pt x="8930" y="16495"/>
                </a:cubicBezTo>
                <a:cubicBezTo>
                  <a:pt x="9000" y="16380"/>
                  <a:pt x="8997" y="16251"/>
                  <a:pt x="9004" y="16123"/>
                </a:cubicBezTo>
                <a:cubicBezTo>
                  <a:pt x="9027" y="16331"/>
                  <a:pt x="9079" y="16535"/>
                  <a:pt x="9103" y="16743"/>
                </a:cubicBezTo>
                <a:cubicBezTo>
                  <a:pt x="9103" y="16760"/>
                  <a:pt x="9103" y="16776"/>
                  <a:pt x="9103" y="16793"/>
                </a:cubicBezTo>
                <a:cubicBezTo>
                  <a:pt x="9113" y="16676"/>
                  <a:pt x="9128" y="16565"/>
                  <a:pt x="9128" y="16446"/>
                </a:cubicBezTo>
                <a:cubicBezTo>
                  <a:pt x="9142" y="16492"/>
                  <a:pt x="9215" y="16838"/>
                  <a:pt x="9327" y="16743"/>
                </a:cubicBezTo>
                <a:cubicBezTo>
                  <a:pt x="9424" y="16661"/>
                  <a:pt x="9401" y="16577"/>
                  <a:pt x="9401" y="16470"/>
                </a:cubicBezTo>
                <a:cubicBezTo>
                  <a:pt x="9385" y="16658"/>
                  <a:pt x="9353" y="16721"/>
                  <a:pt x="9525" y="167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06840" y="5786280"/>
            <a:ext cx="858960" cy="285840"/>
          </a:xfrm>
          <a:custGeom>
            <a:avLst/>
            <a:gdLst/>
            <a:ahLst/>
            <a:rect l="l" t="t" r="r" b="b"/>
            <a:pathLst>
              <a:path w="2382" h="795">
                <a:moveTo>
                  <a:pt x="10170" y="16570"/>
                </a:moveTo>
                <a:cubicBezTo>
                  <a:pt x="10065" y="16379"/>
                  <a:pt x="10021" y="16657"/>
                  <a:pt x="10021" y="16768"/>
                </a:cubicBezTo>
                <a:cubicBezTo>
                  <a:pt x="10049" y="16823"/>
                  <a:pt x="10063" y="16840"/>
                  <a:pt x="10120" y="16818"/>
                </a:cubicBezTo>
                <a:cubicBezTo>
                  <a:pt x="10201" y="16675"/>
                  <a:pt x="10153" y="16571"/>
                  <a:pt x="10195" y="16669"/>
                </a:cubicBezTo>
                <a:cubicBezTo>
                  <a:pt x="10242" y="16740"/>
                  <a:pt x="10255" y="16764"/>
                  <a:pt x="10319" y="16768"/>
                </a:cubicBezTo>
                <a:cubicBezTo>
                  <a:pt x="10388" y="16561"/>
                  <a:pt x="10340" y="16427"/>
                  <a:pt x="10294" y="16222"/>
                </a:cubicBezTo>
                <a:cubicBezTo>
                  <a:pt x="10294" y="16214"/>
                  <a:pt x="10294" y="16205"/>
                  <a:pt x="10294" y="16197"/>
                </a:cubicBezTo>
                <a:cubicBezTo>
                  <a:pt x="10345" y="16367"/>
                  <a:pt x="10398" y="16531"/>
                  <a:pt x="10468" y="16694"/>
                </a:cubicBezTo>
                <a:cubicBezTo>
                  <a:pt x="10468" y="16575"/>
                  <a:pt x="10493" y="16353"/>
                  <a:pt x="10567" y="16446"/>
                </a:cubicBezTo>
                <a:cubicBezTo>
                  <a:pt x="10711" y="16627"/>
                  <a:pt x="10603" y="16753"/>
                  <a:pt x="10443" y="16818"/>
                </a:cubicBezTo>
              </a:path>
              <a:path w="2382" h="795">
                <a:moveTo>
                  <a:pt x="10740" y="16470"/>
                </a:moveTo>
                <a:cubicBezTo>
                  <a:pt x="10720" y="16511"/>
                  <a:pt x="10712" y="16517"/>
                  <a:pt x="10716" y="16545"/>
                </a:cubicBezTo>
                <a:cubicBezTo>
                  <a:pt x="10769" y="16559"/>
                  <a:pt x="11015" y="16598"/>
                  <a:pt x="10889" y="16718"/>
                </a:cubicBezTo>
                <a:cubicBezTo>
                  <a:pt x="10768" y="16834"/>
                  <a:pt x="10638" y="16811"/>
                  <a:pt x="10740" y="16644"/>
                </a:cubicBezTo>
              </a:path>
              <a:path w="2382" h="795">
                <a:moveTo>
                  <a:pt x="11088" y="16396"/>
                </a:moveTo>
                <a:cubicBezTo>
                  <a:pt x="11003" y="16584"/>
                  <a:pt x="10948" y="16664"/>
                  <a:pt x="11088" y="16818"/>
                </a:cubicBezTo>
                <a:cubicBezTo>
                  <a:pt x="11267" y="16741"/>
                  <a:pt x="11280" y="16634"/>
                  <a:pt x="11137" y="16470"/>
                </a:cubicBezTo>
                <a:cubicBezTo>
                  <a:pt x="11121" y="16462"/>
                  <a:pt x="11104" y="16454"/>
                  <a:pt x="11088" y="16446"/>
                </a:cubicBezTo>
              </a:path>
              <a:path w="2382" h="795">
                <a:moveTo>
                  <a:pt x="11286" y="16073"/>
                </a:moveTo>
                <a:cubicBezTo>
                  <a:pt x="11314" y="16330"/>
                  <a:pt x="11377" y="16581"/>
                  <a:pt x="11410" y="16842"/>
                </a:cubicBezTo>
                <a:cubicBezTo>
                  <a:pt x="11410" y="16901"/>
                  <a:pt x="11417" y="16876"/>
                  <a:pt x="11435" y="16743"/>
                </a:cubicBezTo>
              </a:path>
              <a:path w="2382" h="795">
                <a:moveTo>
                  <a:pt x="11460" y="16470"/>
                </a:moveTo>
                <a:cubicBezTo>
                  <a:pt x="11468" y="16505"/>
                  <a:pt x="11545" y="16870"/>
                  <a:pt x="11658" y="16669"/>
                </a:cubicBezTo>
                <a:cubicBezTo>
                  <a:pt x="11658" y="16669"/>
                  <a:pt x="11683" y="16474"/>
                  <a:pt x="11683" y="16545"/>
                </a:cubicBezTo>
                <a:cubicBezTo>
                  <a:pt x="11691" y="16701"/>
                  <a:pt x="11673" y="16731"/>
                  <a:pt x="11782" y="16818"/>
                </a:cubicBezTo>
                <a:cubicBezTo>
                  <a:pt x="11909" y="16614"/>
                  <a:pt x="11890" y="16393"/>
                  <a:pt x="11832" y="16148"/>
                </a:cubicBezTo>
                <a:cubicBezTo>
                  <a:pt x="11824" y="16140"/>
                  <a:pt x="11815" y="16131"/>
                  <a:pt x="11807" y="16123"/>
                </a:cubicBezTo>
                <a:cubicBezTo>
                  <a:pt x="11854" y="16312"/>
                  <a:pt x="11914" y="16501"/>
                  <a:pt x="11956" y="16694"/>
                </a:cubicBezTo>
              </a:path>
              <a:path w="2382" h="795">
                <a:moveTo>
                  <a:pt x="11708" y="16446"/>
                </a:moveTo>
                <a:cubicBezTo>
                  <a:pt x="11879" y="16469"/>
                  <a:pt x="12008" y="16477"/>
                  <a:pt x="12154" y="16545"/>
                </a:cubicBezTo>
                <a:cubicBezTo>
                  <a:pt x="12188" y="16561"/>
                  <a:pt x="12167" y="16558"/>
                  <a:pt x="12204" y="16570"/>
                </a:cubicBezTo>
                <a:cubicBezTo>
                  <a:pt x="12204" y="16496"/>
                  <a:pt x="12200" y="16440"/>
                  <a:pt x="12179" y="16371"/>
                </a:cubicBezTo>
                <a:cubicBezTo>
                  <a:pt x="12055" y="16433"/>
                  <a:pt x="12004" y="16592"/>
                  <a:pt x="12105" y="16718"/>
                </a:cubicBezTo>
                <a:cubicBezTo>
                  <a:pt x="12220" y="16861"/>
                  <a:pt x="12329" y="16712"/>
                  <a:pt x="12402" y="166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13240" y="5884920"/>
            <a:ext cx="135000" cy="160200"/>
          </a:xfrm>
          <a:custGeom>
            <a:avLst/>
            <a:gdLst/>
            <a:ahLst/>
            <a:rect l="l" t="t" r="r" b="b"/>
            <a:pathLst>
              <a:path w="373" h="448">
                <a:moveTo>
                  <a:pt x="14957" y="16346"/>
                </a:moveTo>
                <a:cubicBezTo>
                  <a:pt x="14957" y="16467"/>
                  <a:pt x="14992" y="16573"/>
                  <a:pt x="15007" y="16694"/>
                </a:cubicBezTo>
                <a:cubicBezTo>
                  <a:pt x="15007" y="16743"/>
                  <a:pt x="15007" y="16760"/>
                  <a:pt x="15007" y="16793"/>
                </a:cubicBezTo>
                <a:cubicBezTo>
                  <a:pt x="14965" y="16668"/>
                  <a:pt x="14905" y="16612"/>
                  <a:pt x="14784" y="16570"/>
                </a:cubicBezTo>
                <a:cubicBezTo>
                  <a:pt x="14759" y="16570"/>
                  <a:pt x="14751" y="16570"/>
                  <a:pt x="14759" y="16594"/>
                </a:cubicBezTo>
                <a:cubicBezTo>
                  <a:pt x="14880" y="16655"/>
                  <a:pt x="14992" y="16657"/>
                  <a:pt x="15131" y="166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81800" y="5919840"/>
            <a:ext cx="482400" cy="162000"/>
          </a:xfrm>
          <a:custGeom>
            <a:avLst/>
            <a:gdLst/>
            <a:ahLst/>
            <a:rect l="l" t="t" r="r" b="b"/>
            <a:pathLst>
              <a:path w="1340" h="447">
                <a:moveTo>
                  <a:pt x="15528" y="16446"/>
                </a:moveTo>
                <a:cubicBezTo>
                  <a:pt x="15477" y="16547"/>
                  <a:pt x="15483" y="16714"/>
                  <a:pt x="15553" y="16818"/>
                </a:cubicBezTo>
                <a:cubicBezTo>
                  <a:pt x="15578" y="16834"/>
                  <a:pt x="15602" y="16851"/>
                  <a:pt x="15627" y="16867"/>
                </a:cubicBezTo>
                <a:cubicBezTo>
                  <a:pt x="15813" y="16756"/>
                  <a:pt x="15830" y="16686"/>
                  <a:pt x="15850" y="16470"/>
                </a:cubicBezTo>
                <a:cubicBezTo>
                  <a:pt x="15837" y="16574"/>
                  <a:pt x="15790" y="16812"/>
                  <a:pt x="15900" y="16892"/>
                </a:cubicBezTo>
                <a:cubicBezTo>
                  <a:pt x="15925" y="16884"/>
                  <a:pt x="15949" y="16875"/>
                  <a:pt x="15974" y="16867"/>
                </a:cubicBezTo>
              </a:path>
              <a:path w="1340" h="447">
                <a:moveTo>
                  <a:pt x="16222" y="16470"/>
                </a:moveTo>
                <a:cubicBezTo>
                  <a:pt x="16197" y="16487"/>
                  <a:pt x="16173" y="16503"/>
                  <a:pt x="16148" y="16520"/>
                </a:cubicBezTo>
                <a:cubicBezTo>
                  <a:pt x="16263" y="16619"/>
                  <a:pt x="16358" y="16674"/>
                  <a:pt x="16446" y="16793"/>
                </a:cubicBezTo>
                <a:cubicBezTo>
                  <a:pt x="16292" y="16904"/>
                  <a:pt x="16238" y="16931"/>
                  <a:pt x="16197" y="16743"/>
                </a:cubicBezTo>
              </a:path>
              <a:path w="1340" h="447">
                <a:moveTo>
                  <a:pt x="16520" y="16619"/>
                </a:moveTo>
                <a:cubicBezTo>
                  <a:pt x="16591" y="16591"/>
                  <a:pt x="16594" y="16570"/>
                  <a:pt x="16594" y="16495"/>
                </a:cubicBezTo>
                <a:cubicBezTo>
                  <a:pt x="16496" y="16528"/>
                  <a:pt x="16295" y="16726"/>
                  <a:pt x="16470" y="16842"/>
                </a:cubicBezTo>
                <a:cubicBezTo>
                  <a:pt x="16653" y="16873"/>
                  <a:pt x="16733" y="16864"/>
                  <a:pt x="16842" y="167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32680" y="5803920"/>
            <a:ext cx="465120" cy="260280"/>
          </a:xfrm>
          <a:custGeom>
            <a:avLst/>
            <a:gdLst/>
            <a:ahLst/>
            <a:rect l="l" t="t" r="r" b="b"/>
            <a:pathLst>
              <a:path w="1291" h="720">
                <a:moveTo>
                  <a:pt x="17562" y="16123"/>
                </a:moveTo>
                <a:cubicBezTo>
                  <a:pt x="17550" y="16367"/>
                  <a:pt x="17562" y="16598"/>
                  <a:pt x="17562" y="16842"/>
                </a:cubicBezTo>
              </a:path>
              <a:path w="1291" h="720">
                <a:moveTo>
                  <a:pt x="17314" y="16644"/>
                </a:moveTo>
                <a:cubicBezTo>
                  <a:pt x="17564" y="16702"/>
                  <a:pt x="17799" y="16769"/>
                  <a:pt x="17859" y="16446"/>
                </a:cubicBezTo>
                <a:cubicBezTo>
                  <a:pt x="17859" y="16277"/>
                  <a:pt x="17872" y="16237"/>
                  <a:pt x="17810" y="16148"/>
                </a:cubicBezTo>
                <a:cubicBezTo>
                  <a:pt x="17810" y="16379"/>
                  <a:pt x="17810" y="16611"/>
                  <a:pt x="17810" y="16842"/>
                </a:cubicBezTo>
                <a:cubicBezTo>
                  <a:pt x="17819" y="16802"/>
                  <a:pt x="17890" y="16510"/>
                  <a:pt x="17909" y="16520"/>
                </a:cubicBezTo>
                <a:cubicBezTo>
                  <a:pt x="18053" y="16596"/>
                  <a:pt x="18012" y="16945"/>
                  <a:pt x="18281" y="16768"/>
                </a:cubicBezTo>
                <a:cubicBezTo>
                  <a:pt x="18365" y="16656"/>
                  <a:pt x="18390" y="16606"/>
                  <a:pt x="18355" y="16495"/>
                </a:cubicBezTo>
                <a:cubicBezTo>
                  <a:pt x="18336" y="16531"/>
                  <a:pt x="18166" y="16767"/>
                  <a:pt x="18355" y="16793"/>
                </a:cubicBezTo>
                <a:cubicBezTo>
                  <a:pt x="18479" y="16731"/>
                  <a:pt x="18534" y="16697"/>
                  <a:pt x="18604" y="166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29280" y="5867280"/>
            <a:ext cx="465120" cy="258840"/>
          </a:xfrm>
          <a:custGeom>
            <a:avLst/>
            <a:gdLst/>
            <a:ahLst/>
            <a:rect l="l" t="t" r="r" b="b"/>
            <a:pathLst>
              <a:path w="1291" h="720">
                <a:moveTo>
                  <a:pt x="19397" y="16297"/>
                </a:moveTo>
                <a:cubicBezTo>
                  <a:pt x="19337" y="16326"/>
                  <a:pt x="19311" y="16341"/>
                  <a:pt x="19273" y="16371"/>
                </a:cubicBezTo>
                <a:cubicBezTo>
                  <a:pt x="19398" y="16455"/>
                  <a:pt x="19481" y="16508"/>
                  <a:pt x="19571" y="16619"/>
                </a:cubicBezTo>
                <a:cubicBezTo>
                  <a:pt x="19529" y="16649"/>
                  <a:pt x="19178" y="16812"/>
                  <a:pt x="19248" y="16594"/>
                </a:cubicBezTo>
                <a:cubicBezTo>
                  <a:pt x="19281" y="16545"/>
                  <a:pt x="19315" y="16495"/>
                  <a:pt x="19348" y="16446"/>
                </a:cubicBezTo>
              </a:path>
              <a:path w="1291" h="720">
                <a:moveTo>
                  <a:pt x="20117" y="16297"/>
                </a:moveTo>
                <a:cubicBezTo>
                  <a:pt x="20041" y="16329"/>
                  <a:pt x="19598" y="16604"/>
                  <a:pt x="19893" y="16694"/>
                </a:cubicBezTo>
                <a:cubicBezTo>
                  <a:pt x="20088" y="16753"/>
                  <a:pt x="20059" y="16513"/>
                  <a:pt x="20067" y="16421"/>
                </a:cubicBezTo>
                <a:cubicBezTo>
                  <a:pt x="20047" y="16360"/>
                  <a:pt x="20028" y="16325"/>
                  <a:pt x="20067" y="16371"/>
                </a:cubicBezTo>
                <a:cubicBezTo>
                  <a:pt x="20163" y="16557"/>
                  <a:pt x="20365" y="16910"/>
                  <a:pt x="20042" y="17016"/>
                </a:cubicBezTo>
                <a:cubicBezTo>
                  <a:pt x="19738" y="17116"/>
                  <a:pt x="19781" y="16896"/>
                  <a:pt x="19769" y="16718"/>
                </a:cubicBezTo>
              </a:path>
              <a:path w="1291" h="720">
                <a:moveTo>
                  <a:pt x="20290" y="16570"/>
                </a:moveTo>
                <a:cubicBezTo>
                  <a:pt x="20282" y="16586"/>
                  <a:pt x="20273" y="16603"/>
                  <a:pt x="20265" y="16619"/>
                </a:cubicBezTo>
                <a:cubicBezTo>
                  <a:pt x="20286" y="16538"/>
                  <a:pt x="20294" y="16370"/>
                  <a:pt x="20389" y="16321"/>
                </a:cubicBezTo>
                <a:cubicBezTo>
                  <a:pt x="20536" y="16244"/>
                  <a:pt x="20557" y="16630"/>
                  <a:pt x="20538" y="16694"/>
                </a:cubicBezTo>
                <a:cubicBezTo>
                  <a:pt x="20530" y="16694"/>
                  <a:pt x="20521" y="16694"/>
                  <a:pt x="20513" y="166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16880" y="5732640"/>
            <a:ext cx="268200" cy="233280"/>
          </a:xfrm>
          <a:custGeom>
            <a:avLst/>
            <a:gdLst/>
            <a:ahLst/>
            <a:rect l="l" t="t" r="r" b="b"/>
            <a:pathLst>
              <a:path w="746" h="646">
                <a:moveTo>
                  <a:pt x="21282" y="16123"/>
                </a:moveTo>
                <a:cubicBezTo>
                  <a:pt x="21208" y="16256"/>
                  <a:pt x="21178" y="16348"/>
                  <a:pt x="21158" y="16495"/>
                </a:cubicBezTo>
                <a:cubicBezTo>
                  <a:pt x="21293" y="16535"/>
                  <a:pt x="21553" y="16524"/>
                  <a:pt x="21431" y="16272"/>
                </a:cubicBezTo>
                <a:cubicBezTo>
                  <a:pt x="21372" y="16150"/>
                  <a:pt x="21207" y="16235"/>
                  <a:pt x="21357" y="16173"/>
                </a:cubicBezTo>
              </a:path>
              <a:path w="746" h="646">
                <a:moveTo>
                  <a:pt x="21903" y="15925"/>
                </a:moveTo>
                <a:cubicBezTo>
                  <a:pt x="21680" y="16147"/>
                  <a:pt x="21790" y="16233"/>
                  <a:pt x="21878" y="16520"/>
                </a:cubicBezTo>
                <a:cubicBezTo>
                  <a:pt x="21878" y="16589"/>
                  <a:pt x="21865" y="16592"/>
                  <a:pt x="21803" y="164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49920" y="6170760"/>
            <a:ext cx="652320" cy="214200"/>
          </a:xfrm>
          <a:custGeom>
            <a:avLst/>
            <a:gdLst/>
            <a:ahLst/>
            <a:rect l="l" t="t" r="r" b="b"/>
            <a:pathLst>
              <a:path w="1812" h="596">
                <a:moveTo>
                  <a:pt x="15974" y="17239"/>
                </a:moveTo>
                <a:cubicBezTo>
                  <a:pt x="16011" y="17409"/>
                  <a:pt x="16046" y="17569"/>
                  <a:pt x="16098" y="17735"/>
                </a:cubicBezTo>
              </a:path>
              <a:path w="1812" h="596">
                <a:moveTo>
                  <a:pt x="17711" y="17140"/>
                </a:moveTo>
                <a:cubicBezTo>
                  <a:pt x="17731" y="17332"/>
                  <a:pt x="17758" y="17522"/>
                  <a:pt x="17785" y="177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53080" y="6161040"/>
            <a:ext cx="482760" cy="216000"/>
          </a:xfrm>
          <a:custGeom>
            <a:avLst/>
            <a:gdLst/>
            <a:ahLst/>
            <a:rect l="l" t="t" r="r" b="b"/>
            <a:pathLst>
              <a:path w="1341" h="597">
                <a:moveTo>
                  <a:pt x="15701" y="17314"/>
                </a:moveTo>
                <a:cubicBezTo>
                  <a:pt x="15822" y="17392"/>
                  <a:pt x="16149" y="17551"/>
                  <a:pt x="16272" y="17338"/>
                </a:cubicBezTo>
                <a:cubicBezTo>
                  <a:pt x="16342" y="17215"/>
                  <a:pt x="16234" y="16955"/>
                  <a:pt x="16321" y="17413"/>
                </a:cubicBezTo>
                <a:cubicBezTo>
                  <a:pt x="16329" y="17471"/>
                  <a:pt x="16338" y="17529"/>
                  <a:pt x="16346" y="17587"/>
                </a:cubicBezTo>
                <a:cubicBezTo>
                  <a:pt x="16346" y="17706"/>
                  <a:pt x="16374" y="17452"/>
                  <a:pt x="16396" y="17413"/>
                </a:cubicBezTo>
                <a:cubicBezTo>
                  <a:pt x="16413" y="17396"/>
                  <a:pt x="16429" y="17380"/>
                  <a:pt x="16446" y="17363"/>
                </a:cubicBezTo>
                <a:cubicBezTo>
                  <a:pt x="16530" y="17439"/>
                  <a:pt x="16590" y="17682"/>
                  <a:pt x="16718" y="17686"/>
                </a:cubicBezTo>
                <a:cubicBezTo>
                  <a:pt x="16871" y="17691"/>
                  <a:pt x="16857" y="17439"/>
                  <a:pt x="16867" y="17363"/>
                </a:cubicBezTo>
                <a:cubicBezTo>
                  <a:pt x="16824" y="17449"/>
                  <a:pt x="16714" y="17636"/>
                  <a:pt x="16917" y="17711"/>
                </a:cubicBezTo>
                <a:cubicBezTo>
                  <a:pt x="16958" y="17703"/>
                  <a:pt x="17000" y="17694"/>
                  <a:pt x="17041" y="176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65960" y="6010200"/>
            <a:ext cx="1776240" cy="446040"/>
          </a:xfrm>
          <a:custGeom>
            <a:avLst/>
            <a:gdLst/>
            <a:ahLst/>
            <a:rect l="l" t="t" r="r" b="b"/>
            <a:pathLst>
              <a:path w="4937" h="1241">
                <a:moveTo>
                  <a:pt x="18182" y="17289"/>
                </a:moveTo>
                <a:cubicBezTo>
                  <a:pt x="18037" y="17300"/>
                  <a:pt x="17909" y="17420"/>
                  <a:pt x="17959" y="17611"/>
                </a:cubicBezTo>
                <a:cubicBezTo>
                  <a:pt x="17992" y="17736"/>
                  <a:pt x="18127" y="17539"/>
                  <a:pt x="18157" y="17413"/>
                </a:cubicBezTo>
                <a:cubicBezTo>
                  <a:pt x="18157" y="17396"/>
                  <a:pt x="18157" y="17380"/>
                  <a:pt x="18157" y="17363"/>
                </a:cubicBezTo>
                <a:cubicBezTo>
                  <a:pt x="18130" y="17417"/>
                  <a:pt x="18101" y="17538"/>
                  <a:pt x="18182" y="17562"/>
                </a:cubicBezTo>
                <a:cubicBezTo>
                  <a:pt x="18275" y="17589"/>
                  <a:pt x="18249" y="17441"/>
                  <a:pt x="18281" y="17487"/>
                </a:cubicBezTo>
                <a:cubicBezTo>
                  <a:pt x="18298" y="17512"/>
                  <a:pt x="18314" y="17537"/>
                  <a:pt x="18331" y="17562"/>
                </a:cubicBezTo>
                <a:cubicBezTo>
                  <a:pt x="18339" y="17578"/>
                  <a:pt x="18347" y="17595"/>
                  <a:pt x="18355" y="17611"/>
                </a:cubicBezTo>
                <a:cubicBezTo>
                  <a:pt x="18368" y="17510"/>
                  <a:pt x="18379" y="17350"/>
                  <a:pt x="18479" y="17289"/>
                </a:cubicBezTo>
                <a:cubicBezTo>
                  <a:pt x="18523" y="17262"/>
                  <a:pt x="18655" y="17352"/>
                  <a:pt x="18678" y="17363"/>
                </a:cubicBezTo>
              </a:path>
              <a:path w="4937" h="1241">
                <a:moveTo>
                  <a:pt x="18827" y="17314"/>
                </a:moveTo>
                <a:cubicBezTo>
                  <a:pt x="18721" y="17334"/>
                  <a:pt x="18418" y="17457"/>
                  <a:pt x="18529" y="17636"/>
                </a:cubicBezTo>
                <a:cubicBezTo>
                  <a:pt x="18629" y="17797"/>
                  <a:pt x="18727" y="17370"/>
                  <a:pt x="18728" y="17363"/>
                </a:cubicBezTo>
                <a:cubicBezTo>
                  <a:pt x="18728" y="17355"/>
                  <a:pt x="18728" y="17346"/>
                  <a:pt x="18728" y="17338"/>
                </a:cubicBezTo>
                <a:cubicBezTo>
                  <a:pt x="18782" y="17483"/>
                  <a:pt x="18949" y="17715"/>
                  <a:pt x="18827" y="17859"/>
                </a:cubicBezTo>
                <a:cubicBezTo>
                  <a:pt x="18675" y="18037"/>
                  <a:pt x="18500" y="17927"/>
                  <a:pt x="18479" y="17785"/>
                </a:cubicBezTo>
              </a:path>
              <a:path w="4937" h="1241">
                <a:moveTo>
                  <a:pt x="18926" y="17413"/>
                </a:moveTo>
                <a:cubicBezTo>
                  <a:pt x="19000" y="17388"/>
                  <a:pt x="19025" y="17379"/>
                  <a:pt x="19075" y="17363"/>
                </a:cubicBezTo>
                <a:cubicBezTo>
                  <a:pt x="19060" y="17302"/>
                  <a:pt x="18985" y="17260"/>
                  <a:pt x="18926" y="17314"/>
                </a:cubicBezTo>
                <a:cubicBezTo>
                  <a:pt x="18774" y="17454"/>
                  <a:pt x="18851" y="17630"/>
                  <a:pt x="19050" y="17636"/>
                </a:cubicBezTo>
                <a:cubicBezTo>
                  <a:pt x="19189" y="17640"/>
                  <a:pt x="19158" y="17371"/>
                  <a:pt x="19224" y="17388"/>
                </a:cubicBezTo>
                <a:cubicBezTo>
                  <a:pt x="19261" y="17398"/>
                  <a:pt x="19249" y="17457"/>
                  <a:pt x="19273" y="17487"/>
                </a:cubicBezTo>
                <a:cubicBezTo>
                  <a:pt x="19273" y="17346"/>
                  <a:pt x="19311" y="17260"/>
                  <a:pt x="19447" y="17190"/>
                </a:cubicBezTo>
                <a:cubicBezTo>
                  <a:pt x="19559" y="17132"/>
                  <a:pt x="19560" y="17161"/>
                  <a:pt x="19571" y="17239"/>
                </a:cubicBezTo>
              </a:path>
              <a:path w="4937" h="1241">
                <a:moveTo>
                  <a:pt x="20067" y="17338"/>
                </a:moveTo>
                <a:cubicBezTo>
                  <a:pt x="20038" y="17254"/>
                  <a:pt x="20011" y="17245"/>
                  <a:pt x="19943" y="17190"/>
                </a:cubicBezTo>
                <a:cubicBezTo>
                  <a:pt x="19862" y="17239"/>
                  <a:pt x="19564" y="17493"/>
                  <a:pt x="19794" y="17587"/>
                </a:cubicBezTo>
                <a:cubicBezTo>
                  <a:pt x="19951" y="17651"/>
                  <a:pt x="20056" y="17400"/>
                  <a:pt x="20017" y="17289"/>
                </a:cubicBezTo>
                <a:cubicBezTo>
                  <a:pt x="20009" y="17297"/>
                  <a:pt x="20001" y="17306"/>
                  <a:pt x="19993" y="17314"/>
                </a:cubicBezTo>
                <a:cubicBezTo>
                  <a:pt x="20031" y="17371"/>
                  <a:pt x="20158" y="17656"/>
                  <a:pt x="20290" y="17562"/>
                </a:cubicBezTo>
                <a:cubicBezTo>
                  <a:pt x="20307" y="17529"/>
                  <a:pt x="20323" y="17495"/>
                  <a:pt x="20340" y="17462"/>
                </a:cubicBezTo>
              </a:path>
              <a:path w="4937" h="1241">
                <a:moveTo>
                  <a:pt x="20315" y="17066"/>
                </a:moveTo>
                <a:cubicBezTo>
                  <a:pt x="20315" y="16932"/>
                  <a:pt x="20336" y="17283"/>
                  <a:pt x="20365" y="17413"/>
                </a:cubicBezTo>
                <a:cubicBezTo>
                  <a:pt x="20381" y="17463"/>
                  <a:pt x="20398" y="17512"/>
                  <a:pt x="20414" y="17562"/>
                </a:cubicBezTo>
                <a:cubicBezTo>
                  <a:pt x="20414" y="17682"/>
                  <a:pt x="20397" y="17374"/>
                  <a:pt x="20414" y="17338"/>
                </a:cubicBezTo>
                <a:cubicBezTo>
                  <a:pt x="20488" y="17265"/>
                  <a:pt x="20512" y="17240"/>
                  <a:pt x="20588" y="17289"/>
                </a:cubicBezTo>
                <a:cubicBezTo>
                  <a:pt x="20616" y="17398"/>
                  <a:pt x="20512" y="17677"/>
                  <a:pt x="20365" y="17487"/>
                </a:cubicBezTo>
                <a:cubicBezTo>
                  <a:pt x="20365" y="17454"/>
                  <a:pt x="20365" y="17421"/>
                  <a:pt x="20365" y="17388"/>
                </a:cubicBezTo>
              </a:path>
              <a:path w="4937" h="1241">
                <a:moveTo>
                  <a:pt x="20811" y="17115"/>
                </a:moveTo>
                <a:cubicBezTo>
                  <a:pt x="20746" y="17159"/>
                  <a:pt x="20732" y="17170"/>
                  <a:pt x="20687" y="17190"/>
                </a:cubicBezTo>
                <a:cubicBezTo>
                  <a:pt x="20748" y="17220"/>
                  <a:pt x="20994" y="17252"/>
                  <a:pt x="20985" y="17363"/>
                </a:cubicBezTo>
                <a:cubicBezTo>
                  <a:pt x="20973" y="17501"/>
                  <a:pt x="20810" y="17447"/>
                  <a:pt x="20737" y="17438"/>
                </a:cubicBezTo>
                <a:cubicBezTo>
                  <a:pt x="20699" y="17362"/>
                  <a:pt x="20716" y="17330"/>
                  <a:pt x="20836" y="17314"/>
                </a:cubicBezTo>
              </a:path>
              <a:path w="4937" h="1241">
                <a:moveTo>
                  <a:pt x="21084" y="17140"/>
                </a:moveTo>
                <a:cubicBezTo>
                  <a:pt x="21021" y="17297"/>
                  <a:pt x="20974" y="17525"/>
                  <a:pt x="21258" y="17462"/>
                </a:cubicBezTo>
                <a:cubicBezTo>
                  <a:pt x="21427" y="17424"/>
                  <a:pt x="21247" y="17180"/>
                  <a:pt x="21183" y="17140"/>
                </a:cubicBezTo>
                <a:cubicBezTo>
                  <a:pt x="21150" y="17140"/>
                  <a:pt x="21150" y="17140"/>
                  <a:pt x="21208" y="17140"/>
                </a:cubicBezTo>
              </a:path>
              <a:path w="4937" h="1241">
                <a:moveTo>
                  <a:pt x="21506" y="16818"/>
                </a:moveTo>
                <a:cubicBezTo>
                  <a:pt x="21506" y="17028"/>
                  <a:pt x="21513" y="17231"/>
                  <a:pt x="21530" y="17438"/>
                </a:cubicBezTo>
              </a:path>
              <a:path w="4937" h="1241">
                <a:moveTo>
                  <a:pt x="21654" y="16991"/>
                </a:moveTo>
                <a:cubicBezTo>
                  <a:pt x="21654" y="17099"/>
                  <a:pt x="21618" y="17334"/>
                  <a:pt x="21754" y="17388"/>
                </a:cubicBezTo>
                <a:cubicBezTo>
                  <a:pt x="21933" y="17459"/>
                  <a:pt x="21935" y="17159"/>
                  <a:pt x="21952" y="17066"/>
                </a:cubicBezTo>
                <a:cubicBezTo>
                  <a:pt x="21944" y="17066"/>
                  <a:pt x="21935" y="17066"/>
                  <a:pt x="21927" y="17066"/>
                </a:cubicBezTo>
                <a:cubicBezTo>
                  <a:pt x="21934" y="17140"/>
                  <a:pt x="21954" y="17412"/>
                  <a:pt x="22101" y="17338"/>
                </a:cubicBezTo>
                <a:cubicBezTo>
                  <a:pt x="22134" y="17305"/>
                  <a:pt x="22167" y="17272"/>
                  <a:pt x="22200" y="17239"/>
                </a:cubicBezTo>
              </a:path>
              <a:path w="4937" h="1241">
                <a:moveTo>
                  <a:pt x="22225" y="16694"/>
                </a:moveTo>
                <a:cubicBezTo>
                  <a:pt x="22247" y="16909"/>
                  <a:pt x="22275" y="17122"/>
                  <a:pt x="22275" y="17338"/>
                </a:cubicBezTo>
              </a:path>
              <a:path w="4937" h="1241">
                <a:moveTo>
                  <a:pt x="22225" y="17016"/>
                </a:moveTo>
                <a:cubicBezTo>
                  <a:pt x="22397" y="16991"/>
                  <a:pt x="22506" y="16999"/>
                  <a:pt x="22671" y="17041"/>
                </a:cubicBezTo>
                <a:cubicBezTo>
                  <a:pt x="22743" y="17059"/>
                  <a:pt x="22710" y="16931"/>
                  <a:pt x="22671" y="16867"/>
                </a:cubicBezTo>
                <a:cubicBezTo>
                  <a:pt x="22536" y="16916"/>
                  <a:pt x="22465" y="17090"/>
                  <a:pt x="22622" y="17214"/>
                </a:cubicBezTo>
                <a:cubicBezTo>
                  <a:pt x="22734" y="17303"/>
                  <a:pt x="22827" y="17202"/>
                  <a:pt x="22895" y="171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0280" y="6215040"/>
            <a:ext cx="304920" cy="142920"/>
          </a:xfrm>
          <a:custGeom>
            <a:avLst/>
            <a:gdLst/>
            <a:ahLst/>
            <a:rect l="l" t="t" r="r" b="b"/>
            <a:pathLst>
              <a:path w="845" h="398">
                <a:moveTo>
                  <a:pt x="9723" y="17264"/>
                </a:moveTo>
                <a:cubicBezTo>
                  <a:pt x="9773" y="17388"/>
                  <a:pt x="9840" y="17507"/>
                  <a:pt x="9872" y="17636"/>
                </a:cubicBezTo>
                <a:cubicBezTo>
                  <a:pt x="9886" y="17510"/>
                  <a:pt x="9900" y="17439"/>
                  <a:pt x="9971" y="17338"/>
                </a:cubicBezTo>
              </a:path>
              <a:path w="845" h="398">
                <a:moveTo>
                  <a:pt x="10269" y="17289"/>
                </a:moveTo>
                <a:cubicBezTo>
                  <a:pt x="10154" y="17417"/>
                  <a:pt x="10103" y="17524"/>
                  <a:pt x="10195" y="17661"/>
                </a:cubicBezTo>
                <a:cubicBezTo>
                  <a:pt x="10364" y="17582"/>
                  <a:pt x="10368" y="17566"/>
                  <a:pt x="10368" y="17363"/>
                </a:cubicBezTo>
                <a:cubicBezTo>
                  <a:pt x="10363" y="17414"/>
                  <a:pt x="10399" y="17655"/>
                  <a:pt x="10517" y="17537"/>
                </a:cubicBezTo>
                <a:cubicBezTo>
                  <a:pt x="10534" y="17504"/>
                  <a:pt x="10550" y="17471"/>
                  <a:pt x="10567" y="174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38760" y="6197760"/>
            <a:ext cx="268200" cy="133200"/>
          </a:xfrm>
          <a:custGeom>
            <a:avLst/>
            <a:gdLst/>
            <a:ahLst/>
            <a:rect l="l" t="t" r="r" b="b"/>
            <a:pathLst>
              <a:path w="745" h="374">
                <a:moveTo>
                  <a:pt x="10964" y="17264"/>
                </a:moveTo>
                <a:cubicBezTo>
                  <a:pt x="10946" y="17371"/>
                  <a:pt x="10923" y="17452"/>
                  <a:pt x="10964" y="17562"/>
                </a:cubicBezTo>
                <a:cubicBezTo>
                  <a:pt x="10972" y="17570"/>
                  <a:pt x="10980" y="17579"/>
                  <a:pt x="10988" y="17587"/>
                </a:cubicBezTo>
                <a:cubicBezTo>
                  <a:pt x="11110" y="17570"/>
                  <a:pt x="11102" y="17474"/>
                  <a:pt x="11112" y="17363"/>
                </a:cubicBezTo>
                <a:cubicBezTo>
                  <a:pt x="11112" y="17338"/>
                  <a:pt x="11112" y="17330"/>
                  <a:pt x="11088" y="17338"/>
                </a:cubicBezTo>
              </a:path>
              <a:path w="745" h="374">
                <a:moveTo>
                  <a:pt x="11112" y="17363"/>
                </a:moveTo>
                <a:cubicBezTo>
                  <a:pt x="11191" y="17363"/>
                  <a:pt x="11226" y="17344"/>
                  <a:pt x="11286" y="17289"/>
                </a:cubicBezTo>
                <a:cubicBezTo>
                  <a:pt x="11294" y="17281"/>
                  <a:pt x="11303" y="17272"/>
                  <a:pt x="11311" y="17264"/>
                </a:cubicBezTo>
                <a:cubicBezTo>
                  <a:pt x="11229" y="17215"/>
                  <a:pt x="11160" y="17254"/>
                  <a:pt x="11137" y="17363"/>
                </a:cubicBezTo>
                <a:cubicBezTo>
                  <a:pt x="11096" y="17555"/>
                  <a:pt x="11216" y="17558"/>
                  <a:pt x="11336" y="17487"/>
                </a:cubicBezTo>
                <a:cubicBezTo>
                  <a:pt x="11361" y="17471"/>
                  <a:pt x="11385" y="17454"/>
                  <a:pt x="11410" y="17438"/>
                </a:cubicBezTo>
              </a:path>
              <a:path w="745" h="374">
                <a:moveTo>
                  <a:pt x="11534" y="17214"/>
                </a:moveTo>
                <a:cubicBezTo>
                  <a:pt x="11504" y="17244"/>
                  <a:pt x="11493" y="17258"/>
                  <a:pt x="11485" y="17289"/>
                </a:cubicBezTo>
                <a:cubicBezTo>
                  <a:pt x="11528" y="17305"/>
                  <a:pt x="11756" y="17367"/>
                  <a:pt x="11683" y="17462"/>
                </a:cubicBezTo>
                <a:cubicBezTo>
                  <a:pt x="11637" y="17521"/>
                  <a:pt x="11549" y="17548"/>
                  <a:pt x="11485" y="175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42080" y="6402240"/>
            <a:ext cx="687600" cy="241560"/>
          </a:xfrm>
          <a:custGeom>
            <a:avLst/>
            <a:gdLst/>
            <a:ahLst/>
            <a:rect l="l" t="t" r="r" b="b"/>
            <a:pathLst>
              <a:path w="1911" h="671">
                <a:moveTo>
                  <a:pt x="18728" y="18083"/>
                </a:moveTo>
                <a:cubicBezTo>
                  <a:pt x="18828" y="18200"/>
                  <a:pt x="18878" y="18310"/>
                  <a:pt x="18926" y="18455"/>
                </a:cubicBezTo>
                <a:cubicBezTo>
                  <a:pt x="18990" y="18343"/>
                  <a:pt x="18978" y="18122"/>
                  <a:pt x="19075" y="18033"/>
                </a:cubicBezTo>
                <a:cubicBezTo>
                  <a:pt x="19083" y="18050"/>
                  <a:pt x="19092" y="18066"/>
                  <a:pt x="19100" y="18083"/>
                </a:cubicBezTo>
              </a:path>
              <a:path w="1911" h="671">
                <a:moveTo>
                  <a:pt x="19372" y="18058"/>
                </a:moveTo>
                <a:cubicBezTo>
                  <a:pt x="19310" y="18100"/>
                  <a:pt x="19099" y="18359"/>
                  <a:pt x="19298" y="18430"/>
                </a:cubicBezTo>
                <a:cubicBezTo>
                  <a:pt x="19534" y="18515"/>
                  <a:pt x="19392" y="18139"/>
                  <a:pt x="19372" y="18083"/>
                </a:cubicBezTo>
                <a:cubicBezTo>
                  <a:pt x="19380" y="18135"/>
                  <a:pt x="19491" y="18654"/>
                  <a:pt x="19645" y="18405"/>
                </a:cubicBezTo>
                <a:cubicBezTo>
                  <a:pt x="19736" y="18259"/>
                  <a:pt x="19621" y="17942"/>
                  <a:pt x="19596" y="17785"/>
                </a:cubicBezTo>
                <a:cubicBezTo>
                  <a:pt x="19611" y="17993"/>
                  <a:pt x="19643" y="18199"/>
                  <a:pt x="19670" y="18405"/>
                </a:cubicBezTo>
                <a:cubicBezTo>
                  <a:pt x="19670" y="18440"/>
                  <a:pt x="19679" y="18444"/>
                  <a:pt x="19720" y="18405"/>
                </a:cubicBezTo>
              </a:path>
              <a:path w="1911" h="671">
                <a:moveTo>
                  <a:pt x="19869" y="17983"/>
                </a:moveTo>
                <a:cubicBezTo>
                  <a:pt x="19861" y="18095"/>
                  <a:pt x="19781" y="18304"/>
                  <a:pt x="19893" y="18380"/>
                </a:cubicBezTo>
                <a:cubicBezTo>
                  <a:pt x="19910" y="18380"/>
                  <a:pt x="19926" y="18380"/>
                  <a:pt x="19943" y="18380"/>
                </a:cubicBezTo>
                <a:cubicBezTo>
                  <a:pt x="20038" y="18251"/>
                  <a:pt x="20058" y="18169"/>
                  <a:pt x="20092" y="18008"/>
                </a:cubicBezTo>
                <a:cubicBezTo>
                  <a:pt x="20139" y="17917"/>
                  <a:pt x="20054" y="18211"/>
                  <a:pt x="20117" y="18331"/>
                </a:cubicBezTo>
                <a:cubicBezTo>
                  <a:pt x="20187" y="18401"/>
                  <a:pt x="20208" y="18429"/>
                  <a:pt x="20265" y="18355"/>
                </a:cubicBezTo>
              </a:path>
              <a:path w="1911" h="671">
                <a:moveTo>
                  <a:pt x="20365" y="18132"/>
                </a:moveTo>
                <a:cubicBezTo>
                  <a:pt x="20405" y="18086"/>
                  <a:pt x="20508" y="18050"/>
                  <a:pt x="20513" y="18008"/>
                </a:cubicBezTo>
                <a:cubicBezTo>
                  <a:pt x="20513" y="17983"/>
                  <a:pt x="20513" y="17975"/>
                  <a:pt x="20513" y="17959"/>
                </a:cubicBezTo>
                <a:cubicBezTo>
                  <a:pt x="20334" y="17945"/>
                  <a:pt x="20217" y="18051"/>
                  <a:pt x="20340" y="18256"/>
                </a:cubicBezTo>
                <a:cubicBezTo>
                  <a:pt x="20418" y="18386"/>
                  <a:pt x="20596" y="18354"/>
                  <a:pt x="20638" y="18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Objective:  Students will subtract integers.</a:t>
            </a:r>
            <a:br>
              <a:rPr sz="2000"/>
            </a:b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ubtracting Integers</a:t>
            </a:r>
            <a:br>
              <a:rPr sz="3500"/>
            </a:b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To subtract an integer, add its opposite.      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038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–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+ (-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-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iginal prob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write as adding the opposi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the rule for adding integ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8000" y="1509840"/>
            <a:ext cx="338040" cy="339480"/>
          </a:xfrm>
          <a:custGeom>
            <a:avLst/>
            <a:gdLst/>
            <a:ahLst/>
            <a:rect l="l" t="t" r="r" b="b"/>
            <a:pathLst>
              <a:path w="943" h="944">
                <a:moveTo>
                  <a:pt x="719" y="4316"/>
                </a:moveTo>
                <a:cubicBezTo>
                  <a:pt x="844" y="4390"/>
                  <a:pt x="856" y="4730"/>
                  <a:pt x="868" y="4862"/>
                </a:cubicBezTo>
                <a:cubicBezTo>
                  <a:pt x="877" y="4961"/>
                  <a:pt x="868" y="5011"/>
                  <a:pt x="868" y="5110"/>
                </a:cubicBezTo>
              </a:path>
              <a:path w="943" h="944">
                <a:moveTo>
                  <a:pt x="322" y="4837"/>
                </a:moveTo>
                <a:cubicBezTo>
                  <a:pt x="560" y="4718"/>
                  <a:pt x="806" y="4628"/>
                  <a:pt x="1067" y="4564"/>
                </a:cubicBezTo>
                <a:cubicBezTo>
                  <a:pt x="1176" y="4537"/>
                  <a:pt x="1178" y="4517"/>
                  <a:pt x="1240" y="4564"/>
                </a:cubicBezTo>
              </a:path>
              <a:path w="943" h="944">
                <a:moveTo>
                  <a:pt x="1116" y="4192"/>
                </a:moveTo>
                <a:cubicBezTo>
                  <a:pt x="1056" y="4415"/>
                  <a:pt x="961" y="4675"/>
                  <a:pt x="868" y="4887"/>
                </a:cubicBezTo>
                <a:cubicBezTo>
                  <a:pt x="848" y="4933"/>
                  <a:pt x="779" y="5059"/>
                  <a:pt x="744" y="5085"/>
                </a:cubicBezTo>
              </a:path>
              <a:path w="943" h="944">
                <a:moveTo>
                  <a:pt x="298" y="4564"/>
                </a:moveTo>
                <a:cubicBezTo>
                  <a:pt x="501" y="4583"/>
                  <a:pt x="666" y="4688"/>
                  <a:pt x="843" y="4787"/>
                </a:cubicBezTo>
                <a:cubicBezTo>
                  <a:pt x="884" y="4810"/>
                  <a:pt x="1003" y="4869"/>
                  <a:pt x="1017" y="49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4760" y="2419200"/>
            <a:ext cx="1571400" cy="1822680"/>
          </a:xfrm>
          <a:custGeom>
            <a:avLst/>
            <a:gdLst/>
            <a:ahLst/>
            <a:rect l="l" t="t" r="r" b="b"/>
            <a:pathLst>
              <a:path w="4366" h="5061">
                <a:moveTo>
                  <a:pt x="1513" y="8111"/>
                </a:moveTo>
                <a:cubicBezTo>
                  <a:pt x="1551" y="8174"/>
                  <a:pt x="1560" y="8255"/>
                  <a:pt x="1563" y="8334"/>
                </a:cubicBezTo>
                <a:cubicBezTo>
                  <a:pt x="1572" y="8567"/>
                  <a:pt x="1567" y="8800"/>
                  <a:pt x="1538" y="9029"/>
                </a:cubicBezTo>
                <a:cubicBezTo>
                  <a:pt x="1530" y="9094"/>
                  <a:pt x="1528" y="9140"/>
                  <a:pt x="1513" y="9203"/>
                </a:cubicBezTo>
                <a:cubicBezTo>
                  <a:pt x="1502" y="9248"/>
                  <a:pt x="1513" y="9305"/>
                  <a:pt x="1513" y="9351"/>
                </a:cubicBezTo>
              </a:path>
              <a:path w="4366" h="5061">
                <a:moveTo>
                  <a:pt x="1339" y="9153"/>
                </a:moveTo>
                <a:cubicBezTo>
                  <a:pt x="1331" y="9145"/>
                  <a:pt x="1323" y="9136"/>
                  <a:pt x="1315" y="9128"/>
                </a:cubicBezTo>
                <a:cubicBezTo>
                  <a:pt x="1372" y="9157"/>
                  <a:pt x="1417" y="9245"/>
                  <a:pt x="1463" y="9302"/>
                </a:cubicBezTo>
                <a:cubicBezTo>
                  <a:pt x="1492" y="9338"/>
                  <a:pt x="1488" y="9354"/>
                  <a:pt x="1488" y="9401"/>
                </a:cubicBezTo>
                <a:cubicBezTo>
                  <a:pt x="1525" y="9389"/>
                  <a:pt x="1572" y="9317"/>
                  <a:pt x="1612" y="9277"/>
                </a:cubicBezTo>
                <a:cubicBezTo>
                  <a:pt x="1661" y="9228"/>
                  <a:pt x="1671" y="9203"/>
                  <a:pt x="1736" y="9203"/>
                </a:cubicBezTo>
              </a:path>
              <a:path w="4366" h="5061">
                <a:moveTo>
                  <a:pt x="2332" y="7962"/>
                </a:moveTo>
                <a:cubicBezTo>
                  <a:pt x="2317" y="7988"/>
                  <a:pt x="2310" y="8002"/>
                  <a:pt x="2307" y="8062"/>
                </a:cubicBezTo>
                <a:cubicBezTo>
                  <a:pt x="2301" y="8177"/>
                  <a:pt x="2314" y="8277"/>
                  <a:pt x="2332" y="8384"/>
                </a:cubicBezTo>
                <a:cubicBezTo>
                  <a:pt x="2346" y="8467"/>
                  <a:pt x="2320" y="8540"/>
                  <a:pt x="2307" y="8607"/>
                </a:cubicBezTo>
                <a:cubicBezTo>
                  <a:pt x="2297" y="8656"/>
                  <a:pt x="2290" y="8716"/>
                  <a:pt x="2282" y="8756"/>
                </a:cubicBezTo>
                <a:cubicBezTo>
                  <a:pt x="2271" y="8809"/>
                  <a:pt x="2264" y="8887"/>
                  <a:pt x="2257" y="8930"/>
                </a:cubicBezTo>
                <a:cubicBezTo>
                  <a:pt x="2234" y="9081"/>
                  <a:pt x="2261" y="9265"/>
                  <a:pt x="2282" y="9401"/>
                </a:cubicBezTo>
                <a:cubicBezTo>
                  <a:pt x="2288" y="9440"/>
                  <a:pt x="2282" y="9485"/>
                  <a:pt x="2282" y="9525"/>
                </a:cubicBezTo>
                <a:cubicBezTo>
                  <a:pt x="2259" y="9463"/>
                  <a:pt x="2235" y="9391"/>
                  <a:pt x="2208" y="9327"/>
                </a:cubicBezTo>
                <a:cubicBezTo>
                  <a:pt x="2177" y="9254"/>
                  <a:pt x="2175" y="9293"/>
                  <a:pt x="2158" y="9227"/>
                </a:cubicBezTo>
                <a:cubicBezTo>
                  <a:pt x="2158" y="9253"/>
                  <a:pt x="2167" y="9271"/>
                  <a:pt x="2208" y="9327"/>
                </a:cubicBezTo>
                <a:cubicBezTo>
                  <a:pt x="2239" y="9369"/>
                  <a:pt x="2259" y="9403"/>
                  <a:pt x="2282" y="9426"/>
                </a:cubicBezTo>
                <a:cubicBezTo>
                  <a:pt x="2328" y="9335"/>
                  <a:pt x="2354" y="9279"/>
                  <a:pt x="2431" y="9203"/>
                </a:cubicBezTo>
                <a:cubicBezTo>
                  <a:pt x="2439" y="9195"/>
                  <a:pt x="2448" y="9186"/>
                  <a:pt x="2456" y="9178"/>
                </a:cubicBezTo>
              </a:path>
              <a:path w="4366" h="5061">
                <a:moveTo>
                  <a:pt x="3597" y="6921"/>
                </a:moveTo>
                <a:cubicBezTo>
                  <a:pt x="3560" y="6855"/>
                  <a:pt x="3566" y="6856"/>
                  <a:pt x="3497" y="6821"/>
                </a:cubicBezTo>
                <a:cubicBezTo>
                  <a:pt x="3435" y="6790"/>
                  <a:pt x="3410" y="6791"/>
                  <a:pt x="3349" y="6772"/>
                </a:cubicBezTo>
                <a:cubicBezTo>
                  <a:pt x="3291" y="6753"/>
                  <a:pt x="3235" y="6731"/>
                  <a:pt x="3175" y="6722"/>
                </a:cubicBezTo>
                <a:cubicBezTo>
                  <a:pt x="3104" y="6712"/>
                  <a:pt x="3041" y="6739"/>
                  <a:pt x="2977" y="6747"/>
                </a:cubicBezTo>
                <a:cubicBezTo>
                  <a:pt x="2886" y="6758"/>
                  <a:pt x="2879" y="6744"/>
                  <a:pt x="2803" y="6796"/>
                </a:cubicBezTo>
                <a:cubicBezTo>
                  <a:pt x="2753" y="6831"/>
                  <a:pt x="2689" y="6881"/>
                  <a:pt x="2654" y="6921"/>
                </a:cubicBezTo>
                <a:cubicBezTo>
                  <a:pt x="2624" y="6956"/>
                  <a:pt x="2625" y="7012"/>
                  <a:pt x="2604" y="7045"/>
                </a:cubicBezTo>
                <a:cubicBezTo>
                  <a:pt x="2582" y="7079"/>
                  <a:pt x="2580" y="7106"/>
                  <a:pt x="2580" y="7169"/>
                </a:cubicBezTo>
                <a:cubicBezTo>
                  <a:pt x="2580" y="7261"/>
                  <a:pt x="2595" y="7384"/>
                  <a:pt x="2604" y="7441"/>
                </a:cubicBezTo>
                <a:cubicBezTo>
                  <a:pt x="2614" y="7506"/>
                  <a:pt x="2620" y="7585"/>
                  <a:pt x="2629" y="7640"/>
                </a:cubicBezTo>
                <a:cubicBezTo>
                  <a:pt x="2637" y="7690"/>
                  <a:pt x="2607" y="7734"/>
                  <a:pt x="2604" y="7789"/>
                </a:cubicBezTo>
                <a:cubicBezTo>
                  <a:pt x="2601" y="7862"/>
                  <a:pt x="2622" y="7930"/>
                  <a:pt x="2629" y="7987"/>
                </a:cubicBezTo>
                <a:cubicBezTo>
                  <a:pt x="2636" y="8040"/>
                  <a:pt x="2614" y="8072"/>
                  <a:pt x="2654" y="8111"/>
                </a:cubicBezTo>
                <a:cubicBezTo>
                  <a:pt x="2692" y="8149"/>
                  <a:pt x="2749" y="8158"/>
                  <a:pt x="2803" y="8161"/>
                </a:cubicBezTo>
                <a:cubicBezTo>
                  <a:pt x="2955" y="8169"/>
                  <a:pt x="3106" y="8160"/>
                  <a:pt x="3249" y="8136"/>
                </a:cubicBezTo>
                <a:cubicBezTo>
                  <a:pt x="3334" y="8122"/>
                  <a:pt x="3427" y="8161"/>
                  <a:pt x="3497" y="8111"/>
                </a:cubicBezTo>
                <a:cubicBezTo>
                  <a:pt x="3532" y="8086"/>
                  <a:pt x="3580" y="8030"/>
                  <a:pt x="3597" y="8012"/>
                </a:cubicBezTo>
                <a:cubicBezTo>
                  <a:pt x="3646" y="7962"/>
                  <a:pt x="3644" y="7940"/>
                  <a:pt x="3671" y="7888"/>
                </a:cubicBezTo>
                <a:cubicBezTo>
                  <a:pt x="3696" y="7840"/>
                  <a:pt x="3718" y="7821"/>
                  <a:pt x="3721" y="7764"/>
                </a:cubicBezTo>
                <a:cubicBezTo>
                  <a:pt x="3724" y="7705"/>
                  <a:pt x="3738" y="7689"/>
                  <a:pt x="3746" y="7640"/>
                </a:cubicBezTo>
                <a:cubicBezTo>
                  <a:pt x="3756" y="7576"/>
                  <a:pt x="3730" y="7543"/>
                  <a:pt x="3721" y="7491"/>
                </a:cubicBezTo>
                <a:cubicBezTo>
                  <a:pt x="3716" y="7460"/>
                  <a:pt x="3699" y="7413"/>
                  <a:pt x="3696" y="7392"/>
                </a:cubicBezTo>
                <a:cubicBezTo>
                  <a:pt x="3688" y="7328"/>
                  <a:pt x="3678" y="7246"/>
                  <a:pt x="3671" y="7193"/>
                </a:cubicBezTo>
                <a:cubicBezTo>
                  <a:pt x="3661" y="7120"/>
                  <a:pt x="3698" y="7026"/>
                  <a:pt x="3646" y="6970"/>
                </a:cubicBezTo>
                <a:cubicBezTo>
                  <a:pt x="3622" y="6943"/>
                  <a:pt x="3607" y="6930"/>
                  <a:pt x="3572" y="6921"/>
                </a:cubicBezTo>
                <a:cubicBezTo>
                  <a:pt x="3547" y="6921"/>
                  <a:pt x="3539" y="6921"/>
                  <a:pt x="3522" y="6921"/>
                </a:cubicBezTo>
              </a:path>
              <a:path w="4366" h="5061">
                <a:moveTo>
                  <a:pt x="3473" y="8434"/>
                </a:moveTo>
                <a:cubicBezTo>
                  <a:pt x="3473" y="8391"/>
                  <a:pt x="3483" y="8396"/>
                  <a:pt x="3448" y="8384"/>
                </a:cubicBezTo>
                <a:cubicBezTo>
                  <a:pt x="3448" y="8268"/>
                  <a:pt x="3458" y="8566"/>
                  <a:pt x="3448" y="8682"/>
                </a:cubicBezTo>
                <a:cubicBezTo>
                  <a:pt x="3431" y="8889"/>
                  <a:pt x="3405" y="9095"/>
                  <a:pt x="3398" y="9302"/>
                </a:cubicBezTo>
                <a:cubicBezTo>
                  <a:pt x="3395" y="9376"/>
                  <a:pt x="3398" y="9451"/>
                  <a:pt x="3398" y="9525"/>
                </a:cubicBezTo>
              </a:path>
              <a:path w="4366" h="5061">
                <a:moveTo>
                  <a:pt x="3225" y="9327"/>
                </a:moveTo>
                <a:cubicBezTo>
                  <a:pt x="3236" y="9381"/>
                  <a:pt x="3280" y="9466"/>
                  <a:pt x="3324" y="9500"/>
                </a:cubicBezTo>
                <a:cubicBezTo>
                  <a:pt x="3344" y="9516"/>
                  <a:pt x="3348" y="9516"/>
                  <a:pt x="3373" y="9525"/>
                </a:cubicBezTo>
                <a:cubicBezTo>
                  <a:pt x="3460" y="9453"/>
                  <a:pt x="3540" y="9383"/>
                  <a:pt x="3621" y="9302"/>
                </a:cubicBezTo>
                <a:cubicBezTo>
                  <a:pt x="3663" y="9260"/>
                  <a:pt x="3678" y="9216"/>
                  <a:pt x="3696" y="9252"/>
                </a:cubicBezTo>
              </a:path>
              <a:path w="4366" h="5061">
                <a:moveTo>
                  <a:pt x="2282" y="11361"/>
                </a:moveTo>
                <a:cubicBezTo>
                  <a:pt x="2311" y="11403"/>
                  <a:pt x="2535" y="11403"/>
                  <a:pt x="2604" y="11410"/>
                </a:cubicBezTo>
                <a:cubicBezTo>
                  <a:pt x="2628" y="11413"/>
                  <a:pt x="2655" y="11410"/>
                  <a:pt x="2679" y="11410"/>
                </a:cubicBezTo>
              </a:path>
              <a:path w="4366" h="5061">
                <a:moveTo>
                  <a:pt x="1712" y="11212"/>
                </a:moveTo>
                <a:cubicBezTo>
                  <a:pt x="1637" y="11212"/>
                  <a:pt x="1883" y="11212"/>
                  <a:pt x="1885" y="11212"/>
                </a:cubicBezTo>
                <a:cubicBezTo>
                  <a:pt x="1927" y="11212"/>
                  <a:pt x="1935" y="11212"/>
                  <a:pt x="1960" y="11212"/>
                </a:cubicBezTo>
                <a:cubicBezTo>
                  <a:pt x="1905" y="11387"/>
                  <a:pt x="1830" y="11556"/>
                  <a:pt x="1786" y="11733"/>
                </a:cubicBezTo>
                <a:cubicBezTo>
                  <a:pt x="1786" y="11757"/>
                  <a:pt x="1786" y="11766"/>
                  <a:pt x="1786" y="11782"/>
                </a:cubicBezTo>
              </a:path>
              <a:path w="4366" h="5061">
                <a:moveTo>
                  <a:pt x="3026" y="11212"/>
                </a:moveTo>
                <a:cubicBezTo>
                  <a:pt x="3092" y="11190"/>
                  <a:pt x="3128" y="11174"/>
                  <a:pt x="3200" y="11162"/>
                </a:cubicBezTo>
                <a:cubicBezTo>
                  <a:pt x="3250" y="11366"/>
                  <a:pt x="3209" y="11456"/>
                  <a:pt x="3076" y="11633"/>
                </a:cubicBezTo>
                <a:cubicBezTo>
                  <a:pt x="3051" y="11658"/>
                  <a:pt x="3026" y="11683"/>
                  <a:pt x="3001" y="11708"/>
                </a:cubicBezTo>
                <a:cubicBezTo>
                  <a:pt x="3105" y="11708"/>
                  <a:pt x="3199" y="11678"/>
                  <a:pt x="3299" y="11658"/>
                </a:cubicBezTo>
                <a:cubicBezTo>
                  <a:pt x="3307" y="11658"/>
                  <a:pt x="3316" y="11658"/>
                  <a:pt x="3324" y="11658"/>
                </a:cubicBezTo>
              </a:path>
              <a:path w="4366" h="5061">
                <a:moveTo>
                  <a:pt x="3820" y="11336"/>
                </a:moveTo>
                <a:cubicBezTo>
                  <a:pt x="3870" y="11336"/>
                  <a:pt x="4039" y="11285"/>
                  <a:pt x="4068" y="11311"/>
                </a:cubicBezTo>
                <a:cubicBezTo>
                  <a:pt x="4068" y="11328"/>
                  <a:pt x="4068" y="11344"/>
                  <a:pt x="4068" y="11361"/>
                </a:cubicBezTo>
              </a:path>
              <a:path w="4366" h="5061">
                <a:moveTo>
                  <a:pt x="5234" y="11013"/>
                </a:moveTo>
                <a:cubicBezTo>
                  <a:pt x="5168" y="11037"/>
                  <a:pt x="4965" y="11069"/>
                  <a:pt x="4936" y="11137"/>
                </a:cubicBezTo>
                <a:cubicBezTo>
                  <a:pt x="4907" y="11206"/>
                  <a:pt x="4936" y="11332"/>
                  <a:pt x="4936" y="11410"/>
                </a:cubicBezTo>
                <a:cubicBezTo>
                  <a:pt x="5033" y="11410"/>
                  <a:pt x="5095" y="11340"/>
                  <a:pt x="5184" y="11311"/>
                </a:cubicBezTo>
                <a:cubicBezTo>
                  <a:pt x="5369" y="11252"/>
                  <a:pt x="5480" y="11408"/>
                  <a:pt x="5383" y="11584"/>
                </a:cubicBezTo>
                <a:cubicBezTo>
                  <a:pt x="5296" y="11742"/>
                  <a:pt x="5101" y="11721"/>
                  <a:pt x="4961" y="11683"/>
                </a:cubicBezTo>
              </a:path>
              <a:path w="4366" h="5061">
                <a:moveTo>
                  <a:pt x="1116" y="10939"/>
                </a:moveTo>
                <a:cubicBezTo>
                  <a:pt x="1406" y="10939"/>
                  <a:pt x="1696" y="10942"/>
                  <a:pt x="1984" y="10964"/>
                </a:cubicBezTo>
                <a:cubicBezTo>
                  <a:pt x="2210" y="10981"/>
                  <a:pt x="2427" y="11033"/>
                  <a:pt x="2654" y="11038"/>
                </a:cubicBezTo>
                <a:cubicBezTo>
                  <a:pt x="2880" y="11043"/>
                  <a:pt x="3095" y="11088"/>
                  <a:pt x="3324" y="11088"/>
                </a:cubicBezTo>
                <a:cubicBezTo>
                  <a:pt x="3554" y="11088"/>
                  <a:pt x="3790" y="11090"/>
                  <a:pt x="4018" y="11063"/>
                </a:cubicBezTo>
                <a:cubicBezTo>
                  <a:pt x="4091" y="11054"/>
                  <a:pt x="4231" y="11046"/>
                  <a:pt x="4266" y="11013"/>
                </a:cubicBezTo>
                <a:cubicBezTo>
                  <a:pt x="4290" y="10990"/>
                  <a:pt x="4308" y="10920"/>
                  <a:pt x="4316" y="10864"/>
                </a:cubicBezTo>
                <a:cubicBezTo>
                  <a:pt x="4336" y="10717"/>
                  <a:pt x="4375" y="10566"/>
                  <a:pt x="4390" y="10418"/>
                </a:cubicBezTo>
                <a:cubicBezTo>
                  <a:pt x="4404" y="10276"/>
                  <a:pt x="4417" y="10138"/>
                  <a:pt x="4440" y="9996"/>
                </a:cubicBezTo>
                <a:cubicBezTo>
                  <a:pt x="4460" y="9872"/>
                  <a:pt x="4497" y="9710"/>
                  <a:pt x="4440" y="9599"/>
                </a:cubicBezTo>
                <a:cubicBezTo>
                  <a:pt x="4416" y="9553"/>
                  <a:pt x="4452" y="9538"/>
                  <a:pt x="4366" y="9525"/>
                </a:cubicBezTo>
                <a:cubicBezTo>
                  <a:pt x="4215" y="9502"/>
                  <a:pt x="4041" y="9521"/>
                  <a:pt x="3894" y="9550"/>
                </a:cubicBezTo>
                <a:cubicBezTo>
                  <a:pt x="3818" y="9565"/>
                  <a:pt x="3748" y="9564"/>
                  <a:pt x="3671" y="9575"/>
                </a:cubicBezTo>
                <a:cubicBezTo>
                  <a:pt x="3545" y="9593"/>
                  <a:pt x="3455" y="9585"/>
                  <a:pt x="3324" y="9575"/>
                </a:cubicBezTo>
                <a:cubicBezTo>
                  <a:pt x="3205" y="9566"/>
                  <a:pt x="3093" y="9568"/>
                  <a:pt x="2977" y="9550"/>
                </a:cubicBezTo>
                <a:cubicBezTo>
                  <a:pt x="2851" y="9530"/>
                  <a:pt x="2735" y="9527"/>
                  <a:pt x="2604" y="9525"/>
                </a:cubicBezTo>
                <a:cubicBezTo>
                  <a:pt x="2401" y="9521"/>
                  <a:pt x="2187" y="9519"/>
                  <a:pt x="1984" y="9500"/>
                </a:cubicBezTo>
                <a:cubicBezTo>
                  <a:pt x="1814" y="9484"/>
                  <a:pt x="1636" y="9453"/>
                  <a:pt x="1463" y="9475"/>
                </a:cubicBezTo>
                <a:cubicBezTo>
                  <a:pt x="1369" y="9487"/>
                  <a:pt x="1168" y="9471"/>
                  <a:pt x="1091" y="9525"/>
                </a:cubicBezTo>
                <a:cubicBezTo>
                  <a:pt x="1056" y="9550"/>
                  <a:pt x="1041" y="9696"/>
                  <a:pt x="1042" y="9748"/>
                </a:cubicBezTo>
                <a:cubicBezTo>
                  <a:pt x="1046" y="9938"/>
                  <a:pt x="1086" y="10128"/>
                  <a:pt x="1091" y="10319"/>
                </a:cubicBezTo>
                <a:cubicBezTo>
                  <a:pt x="1094" y="10428"/>
                  <a:pt x="1069" y="10530"/>
                  <a:pt x="1067" y="10641"/>
                </a:cubicBezTo>
                <a:cubicBezTo>
                  <a:pt x="1065" y="10724"/>
                  <a:pt x="1084" y="10845"/>
                  <a:pt x="1091" y="10889"/>
                </a:cubicBezTo>
                <a:cubicBezTo>
                  <a:pt x="1091" y="10897"/>
                  <a:pt x="1091" y="10906"/>
                  <a:pt x="1091" y="10914"/>
                </a:cubicBezTo>
              </a:path>
              <a:path w="4366" h="5061">
                <a:moveTo>
                  <a:pt x="4589" y="11286"/>
                </a:moveTo>
                <a:cubicBezTo>
                  <a:pt x="4581" y="11286"/>
                  <a:pt x="4572" y="11286"/>
                  <a:pt x="4564" y="11286"/>
                </a:cubicBezTo>
                <a:cubicBezTo>
                  <a:pt x="4605" y="11307"/>
                  <a:pt x="4626" y="11286"/>
                  <a:pt x="4688" y="11286"/>
                </a:cubicBezTo>
                <a:cubicBezTo>
                  <a:pt x="4763" y="11286"/>
                  <a:pt x="4613" y="11286"/>
                  <a:pt x="4614" y="11286"/>
                </a:cubicBezTo>
                <a:cubicBezTo>
                  <a:pt x="4630" y="11286"/>
                  <a:pt x="4647" y="11286"/>
                  <a:pt x="4663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66920" y="4152960"/>
            <a:ext cx="142920" cy="7920"/>
          </a:xfrm>
          <a:custGeom>
            <a:avLst/>
            <a:gdLst/>
            <a:ahLst/>
            <a:rect l="l" t="t" r="r" b="b"/>
            <a:pathLst>
              <a:path w="398" h="26">
                <a:moveTo>
                  <a:pt x="3795" y="11559"/>
                </a:moveTo>
                <a:cubicBezTo>
                  <a:pt x="3929" y="11553"/>
                  <a:pt x="4059" y="11541"/>
                  <a:pt x="4192" y="115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87880" y="1955880"/>
            <a:ext cx="2519280" cy="108000"/>
          </a:xfrm>
          <a:custGeom>
            <a:avLst/>
            <a:gdLst/>
            <a:ahLst/>
            <a:rect l="l" t="t" r="r" b="b"/>
            <a:pathLst>
              <a:path w="6996" h="299">
                <a:moveTo>
                  <a:pt x="11633" y="5531"/>
                </a:moveTo>
                <a:cubicBezTo>
                  <a:pt x="11717" y="5557"/>
                  <a:pt x="11812" y="5584"/>
                  <a:pt x="11906" y="5606"/>
                </a:cubicBezTo>
                <a:cubicBezTo>
                  <a:pt x="12101" y="5651"/>
                  <a:pt x="12305" y="5713"/>
                  <a:pt x="12502" y="5730"/>
                </a:cubicBezTo>
                <a:cubicBezTo>
                  <a:pt x="12889" y="5764"/>
                  <a:pt x="13283" y="5712"/>
                  <a:pt x="13667" y="5705"/>
                </a:cubicBezTo>
                <a:cubicBezTo>
                  <a:pt x="13827" y="5702"/>
                  <a:pt x="13981" y="5689"/>
                  <a:pt x="14139" y="5680"/>
                </a:cubicBezTo>
                <a:cubicBezTo>
                  <a:pt x="14296" y="5671"/>
                  <a:pt x="14453" y="5667"/>
                  <a:pt x="14610" y="5655"/>
                </a:cubicBezTo>
                <a:cubicBezTo>
                  <a:pt x="14767" y="5643"/>
                  <a:pt x="14924" y="5593"/>
                  <a:pt x="15081" y="5581"/>
                </a:cubicBezTo>
                <a:cubicBezTo>
                  <a:pt x="15282" y="5566"/>
                  <a:pt x="15478" y="5562"/>
                  <a:pt x="15677" y="5531"/>
                </a:cubicBezTo>
                <a:cubicBezTo>
                  <a:pt x="15885" y="5499"/>
                  <a:pt x="16089" y="5484"/>
                  <a:pt x="16297" y="5457"/>
                </a:cubicBezTo>
                <a:cubicBezTo>
                  <a:pt x="16537" y="5426"/>
                  <a:pt x="16774" y="5432"/>
                  <a:pt x="17016" y="5432"/>
                </a:cubicBezTo>
                <a:cubicBezTo>
                  <a:pt x="17266" y="5432"/>
                  <a:pt x="17512" y="5442"/>
                  <a:pt x="17760" y="5457"/>
                </a:cubicBezTo>
                <a:cubicBezTo>
                  <a:pt x="18047" y="5475"/>
                  <a:pt x="18340" y="5457"/>
                  <a:pt x="18628" y="54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Mnemonic Device - L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ve the first number al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 subtraction to addi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posite sign of the second integ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42000" y="1419120"/>
            <a:ext cx="911160" cy="46080"/>
          </a:xfrm>
          <a:custGeom>
            <a:avLst/>
            <a:gdLst/>
            <a:ahLst/>
            <a:rect l="l" t="t" r="r" b="b"/>
            <a:pathLst>
              <a:path w="2531" h="125">
                <a:moveTo>
                  <a:pt x="15949" y="3944"/>
                </a:moveTo>
                <a:cubicBezTo>
                  <a:pt x="16016" y="3960"/>
                  <a:pt x="16050" y="3967"/>
                  <a:pt x="16123" y="3969"/>
                </a:cubicBezTo>
                <a:cubicBezTo>
                  <a:pt x="16235" y="3973"/>
                  <a:pt x="16337" y="3981"/>
                  <a:pt x="16446" y="3994"/>
                </a:cubicBezTo>
                <a:cubicBezTo>
                  <a:pt x="16554" y="4007"/>
                  <a:pt x="16662" y="4031"/>
                  <a:pt x="16768" y="4043"/>
                </a:cubicBezTo>
                <a:cubicBezTo>
                  <a:pt x="17290" y="4100"/>
                  <a:pt x="17832" y="4024"/>
                  <a:pt x="18355" y="4068"/>
                </a:cubicBezTo>
                <a:cubicBezTo>
                  <a:pt x="18395" y="4071"/>
                  <a:pt x="18439" y="4068"/>
                  <a:pt x="18479" y="40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0960" y="1465200"/>
            <a:ext cx="5892840" cy="2098800"/>
          </a:xfrm>
          <a:custGeom>
            <a:avLst/>
            <a:gdLst/>
            <a:ahLst/>
            <a:rect l="l" t="t" r="r" b="b"/>
            <a:pathLst>
              <a:path w="16372" h="5830">
                <a:moveTo>
                  <a:pt x="18455" y="4068"/>
                </a:moveTo>
                <a:lnTo>
                  <a:pt x="18455" y="4068"/>
                </a:lnTo>
              </a:path>
              <a:path w="16372" h="5830">
                <a:moveTo>
                  <a:pt x="2084" y="9897"/>
                </a:moveTo>
                <a:cubicBezTo>
                  <a:pt x="2100" y="9897"/>
                  <a:pt x="2117" y="9897"/>
                  <a:pt x="2133" y="98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28800" y="1554120"/>
            <a:ext cx="5724360" cy="1812960"/>
          </a:xfrm>
          <a:custGeom>
            <a:avLst/>
            <a:gdLst/>
            <a:ahLst/>
            <a:rect l="l" t="t" r="r" b="b"/>
            <a:pathLst>
              <a:path w="15900" h="5036">
                <a:moveTo>
                  <a:pt x="16148" y="4341"/>
                </a:moveTo>
                <a:cubicBezTo>
                  <a:pt x="16175" y="4333"/>
                  <a:pt x="16194" y="4323"/>
                  <a:pt x="16272" y="4341"/>
                </a:cubicBezTo>
                <a:cubicBezTo>
                  <a:pt x="16412" y="4374"/>
                  <a:pt x="16523" y="4390"/>
                  <a:pt x="16669" y="4390"/>
                </a:cubicBezTo>
                <a:cubicBezTo>
                  <a:pt x="17034" y="4390"/>
                  <a:pt x="17399" y="4391"/>
                  <a:pt x="17760" y="4366"/>
                </a:cubicBezTo>
                <a:cubicBezTo>
                  <a:pt x="17997" y="4350"/>
                  <a:pt x="18241" y="4366"/>
                  <a:pt x="18479" y="4366"/>
                </a:cubicBezTo>
              </a:path>
              <a:path w="15900" h="5036">
                <a:moveTo>
                  <a:pt x="2580" y="6052"/>
                </a:moveTo>
                <a:cubicBezTo>
                  <a:pt x="2630" y="6038"/>
                  <a:pt x="2598" y="6042"/>
                  <a:pt x="2704" y="6052"/>
                </a:cubicBezTo>
                <a:cubicBezTo>
                  <a:pt x="2844" y="6065"/>
                  <a:pt x="2988" y="6053"/>
                  <a:pt x="3125" y="6028"/>
                </a:cubicBezTo>
                <a:cubicBezTo>
                  <a:pt x="3239" y="6007"/>
                  <a:pt x="3360" y="5991"/>
                  <a:pt x="3473" y="5978"/>
                </a:cubicBezTo>
                <a:cubicBezTo>
                  <a:pt x="3571" y="5967"/>
                  <a:pt x="3672" y="5957"/>
                  <a:pt x="3770" y="5953"/>
                </a:cubicBezTo>
                <a:cubicBezTo>
                  <a:pt x="3861" y="5949"/>
                  <a:pt x="3875" y="5967"/>
                  <a:pt x="3969" y="6003"/>
                </a:cubicBezTo>
                <a:cubicBezTo>
                  <a:pt x="4112" y="6058"/>
                  <a:pt x="4289" y="6028"/>
                  <a:pt x="4440" y="6028"/>
                </a:cubicBezTo>
                <a:cubicBezTo>
                  <a:pt x="4559" y="6028"/>
                  <a:pt x="4698" y="5989"/>
                  <a:pt x="4812" y="6003"/>
                </a:cubicBezTo>
                <a:cubicBezTo>
                  <a:pt x="4977" y="6024"/>
                  <a:pt x="5116" y="6007"/>
                  <a:pt x="5283" y="6003"/>
                </a:cubicBezTo>
                <a:cubicBezTo>
                  <a:pt x="5332" y="6002"/>
                  <a:pt x="5382" y="6003"/>
                  <a:pt x="5432" y="6003"/>
                </a:cubicBezTo>
              </a:path>
              <a:path w="15900" h="5036">
                <a:moveTo>
                  <a:pt x="2629" y="7714"/>
                </a:moveTo>
                <a:cubicBezTo>
                  <a:pt x="2710" y="7707"/>
                  <a:pt x="2888" y="7673"/>
                  <a:pt x="3001" y="7665"/>
                </a:cubicBezTo>
                <a:cubicBezTo>
                  <a:pt x="3159" y="7654"/>
                  <a:pt x="3315" y="7640"/>
                  <a:pt x="3473" y="7640"/>
                </a:cubicBezTo>
                <a:cubicBezTo>
                  <a:pt x="3789" y="7640"/>
                  <a:pt x="4103" y="7641"/>
                  <a:pt x="4415" y="7615"/>
                </a:cubicBezTo>
                <a:cubicBezTo>
                  <a:pt x="4570" y="7602"/>
                  <a:pt x="4733" y="7598"/>
                  <a:pt x="4887" y="7590"/>
                </a:cubicBezTo>
                <a:cubicBezTo>
                  <a:pt x="5242" y="7570"/>
                  <a:pt x="5600" y="7589"/>
                  <a:pt x="5953" y="7565"/>
                </a:cubicBezTo>
                <a:cubicBezTo>
                  <a:pt x="6141" y="7552"/>
                  <a:pt x="6335" y="7565"/>
                  <a:pt x="6524" y="7565"/>
                </a:cubicBezTo>
              </a:path>
              <a:path w="15900" h="5036">
                <a:moveTo>
                  <a:pt x="12898" y="7789"/>
                </a:moveTo>
                <a:cubicBezTo>
                  <a:pt x="13017" y="7768"/>
                  <a:pt x="13160" y="7764"/>
                  <a:pt x="13295" y="7764"/>
                </a:cubicBezTo>
                <a:cubicBezTo>
                  <a:pt x="13663" y="7764"/>
                  <a:pt x="14020" y="7786"/>
                  <a:pt x="14387" y="7813"/>
                </a:cubicBezTo>
                <a:cubicBezTo>
                  <a:pt x="14867" y="7848"/>
                  <a:pt x="15344" y="7884"/>
                  <a:pt x="15825" y="7888"/>
                </a:cubicBezTo>
                <a:cubicBezTo>
                  <a:pt x="16210" y="7891"/>
                  <a:pt x="16583" y="7836"/>
                  <a:pt x="16966" y="7813"/>
                </a:cubicBezTo>
                <a:cubicBezTo>
                  <a:pt x="17033" y="7809"/>
                  <a:pt x="17098" y="7815"/>
                  <a:pt x="17165" y="7813"/>
                </a:cubicBezTo>
              </a:path>
              <a:path w="15900" h="5036">
                <a:moveTo>
                  <a:pt x="2803" y="9351"/>
                </a:moveTo>
                <a:cubicBezTo>
                  <a:pt x="2822" y="9341"/>
                  <a:pt x="2742" y="9327"/>
                  <a:pt x="2853" y="9302"/>
                </a:cubicBezTo>
                <a:cubicBezTo>
                  <a:pt x="2991" y="9271"/>
                  <a:pt x="3130" y="9255"/>
                  <a:pt x="3274" y="9252"/>
                </a:cubicBezTo>
                <a:cubicBezTo>
                  <a:pt x="3655" y="9243"/>
                  <a:pt x="4037" y="9252"/>
                  <a:pt x="4415" y="9277"/>
                </a:cubicBezTo>
                <a:cubicBezTo>
                  <a:pt x="4637" y="9292"/>
                  <a:pt x="4863" y="9289"/>
                  <a:pt x="5085" y="9302"/>
                </a:cubicBezTo>
                <a:cubicBezTo>
                  <a:pt x="5293" y="9314"/>
                  <a:pt x="5495" y="9258"/>
                  <a:pt x="5705" y="9277"/>
                </a:cubicBezTo>
                <a:cubicBezTo>
                  <a:pt x="5897" y="9294"/>
                  <a:pt x="6082" y="9302"/>
                  <a:pt x="6276" y="9302"/>
                </a:cubicBezTo>
                <a:cubicBezTo>
                  <a:pt x="7053" y="9302"/>
                  <a:pt x="7832" y="9309"/>
                  <a:pt x="8607" y="9277"/>
                </a:cubicBezTo>
                <a:cubicBezTo>
                  <a:pt x="8809" y="9269"/>
                  <a:pt x="9005" y="9286"/>
                  <a:pt x="9203" y="9302"/>
                </a:cubicBezTo>
                <a:cubicBezTo>
                  <a:pt x="9261" y="9302"/>
                  <a:pt x="9269" y="9302"/>
                  <a:pt x="9302" y="9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re Examp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-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+ (-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-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iginal prob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write as adding the opposite. (LC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the rule for adding integ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9920" y="3687840"/>
            <a:ext cx="4660920" cy="1071360"/>
          </a:xfrm>
          <a:custGeom>
            <a:avLst/>
            <a:gdLst/>
            <a:ahLst/>
            <a:rect l="l" t="t" r="r" b="b"/>
            <a:pathLst>
              <a:path w="12949" h="2978">
                <a:moveTo>
                  <a:pt x="2009" y="10244"/>
                </a:moveTo>
                <a:cubicBezTo>
                  <a:pt x="1994" y="10333"/>
                  <a:pt x="1968" y="10426"/>
                  <a:pt x="1960" y="10517"/>
                </a:cubicBezTo>
                <a:cubicBezTo>
                  <a:pt x="1953" y="10598"/>
                  <a:pt x="1966" y="10696"/>
                  <a:pt x="1984" y="10740"/>
                </a:cubicBezTo>
                <a:cubicBezTo>
                  <a:pt x="2013" y="10811"/>
                  <a:pt x="2156" y="10754"/>
                  <a:pt x="2208" y="10716"/>
                </a:cubicBezTo>
                <a:cubicBezTo>
                  <a:pt x="2246" y="10689"/>
                  <a:pt x="2334" y="10559"/>
                  <a:pt x="2257" y="10517"/>
                </a:cubicBezTo>
                <a:cubicBezTo>
                  <a:pt x="2198" y="10517"/>
                  <a:pt x="2172" y="10514"/>
                  <a:pt x="2133" y="10492"/>
                </a:cubicBezTo>
                <a:cubicBezTo>
                  <a:pt x="2075" y="10580"/>
                  <a:pt x="2063" y="10659"/>
                  <a:pt x="2059" y="10765"/>
                </a:cubicBezTo>
                <a:cubicBezTo>
                  <a:pt x="2056" y="10836"/>
                  <a:pt x="2070" y="10815"/>
                  <a:pt x="2133" y="10815"/>
                </a:cubicBezTo>
              </a:path>
              <a:path w="12949" h="2978">
                <a:moveTo>
                  <a:pt x="471" y="13047"/>
                </a:moveTo>
                <a:cubicBezTo>
                  <a:pt x="550" y="13086"/>
                  <a:pt x="586" y="13199"/>
                  <a:pt x="719" y="13221"/>
                </a:cubicBezTo>
                <a:cubicBezTo>
                  <a:pt x="1083" y="13281"/>
                  <a:pt x="1218" y="13107"/>
                  <a:pt x="1513" y="12998"/>
                </a:cubicBezTo>
                <a:cubicBezTo>
                  <a:pt x="1766" y="12905"/>
                  <a:pt x="1532" y="12977"/>
                  <a:pt x="1736" y="12948"/>
                </a:cubicBezTo>
                <a:cubicBezTo>
                  <a:pt x="2014" y="12909"/>
                  <a:pt x="2314" y="12872"/>
                  <a:pt x="2604" y="12824"/>
                </a:cubicBezTo>
                <a:cubicBezTo>
                  <a:pt x="2835" y="12786"/>
                  <a:pt x="2998" y="12805"/>
                  <a:pt x="3200" y="12824"/>
                </a:cubicBezTo>
                <a:cubicBezTo>
                  <a:pt x="3469" y="12850"/>
                  <a:pt x="3698" y="12817"/>
                  <a:pt x="3969" y="12774"/>
                </a:cubicBezTo>
                <a:cubicBezTo>
                  <a:pt x="4170" y="12742"/>
                  <a:pt x="4445" y="12665"/>
                  <a:pt x="4638" y="12725"/>
                </a:cubicBezTo>
                <a:cubicBezTo>
                  <a:pt x="4906" y="12808"/>
                  <a:pt x="4989" y="12948"/>
                  <a:pt x="5358" y="12948"/>
                </a:cubicBezTo>
                <a:cubicBezTo>
                  <a:pt x="5851" y="12948"/>
                  <a:pt x="6332" y="12852"/>
                  <a:pt x="6821" y="12824"/>
                </a:cubicBezTo>
                <a:cubicBezTo>
                  <a:pt x="7007" y="12813"/>
                  <a:pt x="7006" y="12879"/>
                  <a:pt x="7144" y="12898"/>
                </a:cubicBezTo>
                <a:cubicBezTo>
                  <a:pt x="7731" y="12977"/>
                  <a:pt x="8380" y="12712"/>
                  <a:pt x="8930" y="12799"/>
                </a:cubicBezTo>
                <a:cubicBezTo>
                  <a:pt x="9054" y="12819"/>
                  <a:pt x="9045" y="12912"/>
                  <a:pt x="9227" y="12923"/>
                </a:cubicBezTo>
                <a:cubicBezTo>
                  <a:pt x="9567" y="12943"/>
                  <a:pt x="9871" y="12747"/>
                  <a:pt x="10195" y="12750"/>
                </a:cubicBezTo>
                <a:cubicBezTo>
                  <a:pt x="10279" y="12751"/>
                  <a:pt x="10338" y="12824"/>
                  <a:pt x="10443" y="12824"/>
                </a:cubicBezTo>
                <a:cubicBezTo>
                  <a:pt x="10875" y="12824"/>
                  <a:pt x="11288" y="12715"/>
                  <a:pt x="11708" y="12626"/>
                </a:cubicBezTo>
                <a:cubicBezTo>
                  <a:pt x="11810" y="12785"/>
                  <a:pt x="11564" y="12846"/>
                  <a:pt x="12005" y="12874"/>
                </a:cubicBezTo>
                <a:cubicBezTo>
                  <a:pt x="12246" y="12889"/>
                  <a:pt x="12445" y="12797"/>
                  <a:pt x="12675" y="12774"/>
                </a:cubicBezTo>
                <a:cubicBezTo>
                  <a:pt x="12887" y="12753"/>
                  <a:pt x="13279" y="12721"/>
                  <a:pt x="13395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8920" y="38671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497" y="10740"/>
                </a:moveTo>
                <a:lnTo>
                  <a:pt x="3497" y="1074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1120" y="2589120"/>
            <a:ext cx="1741680" cy="1278000"/>
          </a:xfrm>
          <a:custGeom>
            <a:avLst/>
            <a:gdLst/>
            <a:ahLst/>
            <a:rect l="l" t="t" r="r" b="b"/>
            <a:pathLst>
              <a:path w="4838" h="3548">
                <a:moveTo>
                  <a:pt x="1935" y="7466"/>
                </a:moveTo>
                <a:cubicBezTo>
                  <a:pt x="1877" y="7485"/>
                  <a:pt x="1926" y="7582"/>
                  <a:pt x="1935" y="7640"/>
                </a:cubicBezTo>
                <a:cubicBezTo>
                  <a:pt x="1966" y="7838"/>
                  <a:pt x="1958" y="8038"/>
                  <a:pt x="1984" y="8235"/>
                </a:cubicBezTo>
                <a:cubicBezTo>
                  <a:pt x="2000" y="8360"/>
                  <a:pt x="2033" y="8489"/>
                  <a:pt x="2059" y="8607"/>
                </a:cubicBezTo>
                <a:cubicBezTo>
                  <a:pt x="2059" y="8632"/>
                  <a:pt x="2059" y="8640"/>
                  <a:pt x="2059" y="8607"/>
                </a:cubicBezTo>
              </a:path>
              <a:path w="4838" h="3548">
                <a:moveTo>
                  <a:pt x="2480" y="7193"/>
                </a:moveTo>
                <a:cubicBezTo>
                  <a:pt x="2530" y="7306"/>
                  <a:pt x="2530" y="7392"/>
                  <a:pt x="2530" y="7516"/>
                </a:cubicBezTo>
                <a:cubicBezTo>
                  <a:pt x="2530" y="7640"/>
                  <a:pt x="2564" y="7797"/>
                  <a:pt x="2555" y="7913"/>
                </a:cubicBezTo>
                <a:cubicBezTo>
                  <a:pt x="2546" y="8028"/>
                  <a:pt x="2530" y="8140"/>
                  <a:pt x="2530" y="8260"/>
                </a:cubicBezTo>
                <a:cubicBezTo>
                  <a:pt x="2530" y="8390"/>
                  <a:pt x="2543" y="8508"/>
                  <a:pt x="2555" y="8632"/>
                </a:cubicBezTo>
                <a:cubicBezTo>
                  <a:pt x="2562" y="8702"/>
                  <a:pt x="2576" y="8763"/>
                  <a:pt x="2580" y="8830"/>
                </a:cubicBezTo>
                <a:cubicBezTo>
                  <a:pt x="2581" y="8855"/>
                  <a:pt x="2580" y="8830"/>
                  <a:pt x="2580" y="8855"/>
                </a:cubicBezTo>
              </a:path>
              <a:path w="4838" h="3548">
                <a:moveTo>
                  <a:pt x="3150" y="7218"/>
                </a:moveTo>
                <a:cubicBezTo>
                  <a:pt x="3172" y="7246"/>
                  <a:pt x="3178" y="7295"/>
                  <a:pt x="3200" y="7342"/>
                </a:cubicBezTo>
                <a:cubicBezTo>
                  <a:pt x="3226" y="7397"/>
                  <a:pt x="3210" y="7431"/>
                  <a:pt x="3225" y="7491"/>
                </a:cubicBezTo>
                <a:cubicBezTo>
                  <a:pt x="3237" y="7539"/>
                  <a:pt x="3236" y="7593"/>
                  <a:pt x="3249" y="7640"/>
                </a:cubicBezTo>
                <a:cubicBezTo>
                  <a:pt x="3260" y="7679"/>
                  <a:pt x="3272" y="7695"/>
                  <a:pt x="3274" y="7739"/>
                </a:cubicBezTo>
                <a:cubicBezTo>
                  <a:pt x="3279" y="7837"/>
                  <a:pt x="3268" y="7920"/>
                  <a:pt x="3299" y="8012"/>
                </a:cubicBezTo>
                <a:cubicBezTo>
                  <a:pt x="3321" y="8077"/>
                  <a:pt x="3331" y="8145"/>
                  <a:pt x="3349" y="8210"/>
                </a:cubicBezTo>
                <a:cubicBezTo>
                  <a:pt x="3368" y="8279"/>
                  <a:pt x="3382" y="8339"/>
                  <a:pt x="3398" y="8409"/>
                </a:cubicBezTo>
                <a:cubicBezTo>
                  <a:pt x="3418" y="8493"/>
                  <a:pt x="3452" y="8576"/>
                  <a:pt x="3473" y="8657"/>
                </a:cubicBezTo>
                <a:cubicBezTo>
                  <a:pt x="3486" y="8709"/>
                  <a:pt x="3503" y="8755"/>
                  <a:pt x="3522" y="8806"/>
                </a:cubicBezTo>
                <a:cubicBezTo>
                  <a:pt x="3538" y="8848"/>
                  <a:pt x="3574" y="8904"/>
                  <a:pt x="3547" y="8880"/>
                </a:cubicBezTo>
                <a:cubicBezTo>
                  <a:pt x="3490" y="8829"/>
                  <a:pt x="3424" y="8756"/>
                  <a:pt x="3349" y="8731"/>
                </a:cubicBezTo>
                <a:cubicBezTo>
                  <a:pt x="3341" y="8731"/>
                  <a:pt x="3332" y="8731"/>
                  <a:pt x="3324" y="8731"/>
                </a:cubicBezTo>
                <a:cubicBezTo>
                  <a:pt x="3353" y="8764"/>
                  <a:pt x="3389" y="8838"/>
                  <a:pt x="3448" y="8855"/>
                </a:cubicBezTo>
                <a:cubicBezTo>
                  <a:pt x="3548" y="8885"/>
                  <a:pt x="3546" y="8733"/>
                  <a:pt x="3572" y="8682"/>
                </a:cubicBezTo>
                <a:cubicBezTo>
                  <a:pt x="3607" y="8647"/>
                  <a:pt x="3620" y="8625"/>
                  <a:pt x="3621" y="8582"/>
                </a:cubicBezTo>
              </a:path>
              <a:path w="4838" h="3548">
                <a:moveTo>
                  <a:pt x="2431" y="8706"/>
                </a:moveTo>
                <a:cubicBezTo>
                  <a:pt x="2491" y="8742"/>
                  <a:pt x="2545" y="8840"/>
                  <a:pt x="2604" y="8880"/>
                </a:cubicBezTo>
                <a:cubicBezTo>
                  <a:pt x="2695" y="8844"/>
                  <a:pt x="2745" y="8740"/>
                  <a:pt x="2803" y="8657"/>
                </a:cubicBezTo>
              </a:path>
              <a:path w="4838" h="3548">
                <a:moveTo>
                  <a:pt x="1860" y="8558"/>
                </a:moveTo>
                <a:cubicBezTo>
                  <a:pt x="1924" y="8621"/>
                  <a:pt x="1991" y="8674"/>
                  <a:pt x="2059" y="8731"/>
                </a:cubicBezTo>
                <a:cubicBezTo>
                  <a:pt x="2130" y="8660"/>
                  <a:pt x="2184" y="8506"/>
                  <a:pt x="2257" y="8409"/>
                </a:cubicBezTo>
              </a:path>
              <a:path w="4838" h="3548">
                <a:moveTo>
                  <a:pt x="2604" y="10393"/>
                </a:moveTo>
                <a:cubicBezTo>
                  <a:pt x="2695" y="10393"/>
                  <a:pt x="2786" y="10393"/>
                  <a:pt x="2877" y="10393"/>
                </a:cubicBezTo>
                <a:cubicBezTo>
                  <a:pt x="2760" y="10410"/>
                  <a:pt x="2646" y="10422"/>
                  <a:pt x="2530" y="10443"/>
                </a:cubicBezTo>
                <a:cubicBezTo>
                  <a:pt x="2620" y="10473"/>
                  <a:pt x="2725" y="10451"/>
                  <a:pt x="2853" y="10443"/>
                </a:cubicBezTo>
                <a:cubicBezTo>
                  <a:pt x="2917" y="10439"/>
                  <a:pt x="2986" y="10443"/>
                  <a:pt x="3051" y="10443"/>
                </a:cubicBezTo>
              </a:path>
              <a:path w="4838" h="3548">
                <a:moveTo>
                  <a:pt x="3225" y="10567"/>
                </a:moveTo>
                <a:cubicBezTo>
                  <a:pt x="3319" y="10586"/>
                  <a:pt x="3411" y="10573"/>
                  <a:pt x="3473" y="10492"/>
                </a:cubicBezTo>
                <a:cubicBezTo>
                  <a:pt x="3473" y="10484"/>
                  <a:pt x="3473" y="10476"/>
                  <a:pt x="3473" y="10468"/>
                </a:cubicBezTo>
              </a:path>
              <a:path w="4838" h="3548">
                <a:moveTo>
                  <a:pt x="3473" y="10220"/>
                </a:moveTo>
                <a:cubicBezTo>
                  <a:pt x="3473" y="10154"/>
                  <a:pt x="3473" y="10302"/>
                  <a:pt x="3473" y="10368"/>
                </a:cubicBezTo>
                <a:cubicBezTo>
                  <a:pt x="3473" y="10445"/>
                  <a:pt x="3433" y="10719"/>
                  <a:pt x="3497" y="10740"/>
                </a:cubicBezTo>
              </a:path>
              <a:path w="4838" h="3548">
                <a:moveTo>
                  <a:pt x="4415" y="10344"/>
                </a:moveTo>
                <a:cubicBezTo>
                  <a:pt x="4569" y="10309"/>
                  <a:pt x="4696" y="10238"/>
                  <a:pt x="4837" y="10319"/>
                </a:cubicBezTo>
              </a:path>
              <a:path w="4838" h="3548">
                <a:moveTo>
                  <a:pt x="4440" y="10542"/>
                </a:moveTo>
                <a:cubicBezTo>
                  <a:pt x="4606" y="10531"/>
                  <a:pt x="4751" y="10487"/>
                  <a:pt x="4911" y="10443"/>
                </a:cubicBezTo>
              </a:path>
              <a:path w="4838" h="3548">
                <a:moveTo>
                  <a:pt x="5259" y="10244"/>
                </a:moveTo>
                <a:cubicBezTo>
                  <a:pt x="5360" y="10207"/>
                  <a:pt x="5532" y="10186"/>
                  <a:pt x="5631" y="10244"/>
                </a:cubicBezTo>
                <a:cubicBezTo>
                  <a:pt x="5647" y="10269"/>
                  <a:pt x="5664" y="10294"/>
                  <a:pt x="5680" y="10319"/>
                </a:cubicBezTo>
                <a:cubicBezTo>
                  <a:pt x="5589" y="10474"/>
                  <a:pt x="5470" y="10561"/>
                  <a:pt x="5358" y="10691"/>
                </a:cubicBezTo>
                <a:cubicBezTo>
                  <a:pt x="5358" y="10699"/>
                  <a:pt x="5358" y="10708"/>
                  <a:pt x="5358" y="10716"/>
                </a:cubicBezTo>
                <a:cubicBezTo>
                  <a:pt x="5510" y="10716"/>
                  <a:pt x="5655" y="10693"/>
                  <a:pt x="5804" y="10666"/>
                </a:cubicBezTo>
                <a:cubicBezTo>
                  <a:pt x="5883" y="10652"/>
                  <a:pt x="5912" y="10641"/>
                  <a:pt x="5978" y="10641"/>
                </a:cubicBezTo>
              </a:path>
              <a:path w="4838" h="3548">
                <a:moveTo>
                  <a:pt x="1141" y="10096"/>
                </a:moveTo>
                <a:cubicBezTo>
                  <a:pt x="1221" y="10086"/>
                  <a:pt x="1348" y="10081"/>
                  <a:pt x="1439" y="10071"/>
                </a:cubicBezTo>
                <a:cubicBezTo>
                  <a:pt x="1614" y="10052"/>
                  <a:pt x="1783" y="10024"/>
                  <a:pt x="1960" y="10021"/>
                </a:cubicBezTo>
                <a:cubicBezTo>
                  <a:pt x="2546" y="10010"/>
                  <a:pt x="3140" y="10051"/>
                  <a:pt x="3721" y="9996"/>
                </a:cubicBezTo>
                <a:cubicBezTo>
                  <a:pt x="3830" y="9986"/>
                  <a:pt x="3936" y="9989"/>
                  <a:pt x="4043" y="9971"/>
                </a:cubicBezTo>
                <a:cubicBezTo>
                  <a:pt x="4167" y="9950"/>
                  <a:pt x="4162" y="9964"/>
                  <a:pt x="4266" y="9971"/>
                </a:cubicBezTo>
                <a:cubicBezTo>
                  <a:pt x="4371" y="9978"/>
                  <a:pt x="4462" y="9951"/>
                  <a:pt x="4564" y="9947"/>
                </a:cubicBezTo>
                <a:cubicBezTo>
                  <a:pt x="4613" y="9945"/>
                  <a:pt x="4663" y="9947"/>
                  <a:pt x="4713" y="9947"/>
                </a:cubicBezTo>
                <a:cubicBezTo>
                  <a:pt x="4729" y="9825"/>
                  <a:pt x="4715" y="9706"/>
                  <a:pt x="4713" y="9575"/>
                </a:cubicBezTo>
                <a:cubicBezTo>
                  <a:pt x="4710" y="9375"/>
                  <a:pt x="4688" y="9180"/>
                  <a:pt x="4688" y="8979"/>
                </a:cubicBezTo>
                <a:cubicBezTo>
                  <a:pt x="4688" y="8938"/>
                  <a:pt x="4688" y="8930"/>
                  <a:pt x="4688" y="8905"/>
                </a:cubicBezTo>
                <a:cubicBezTo>
                  <a:pt x="4629" y="8893"/>
                  <a:pt x="4577" y="8882"/>
                  <a:pt x="4514" y="8880"/>
                </a:cubicBezTo>
                <a:cubicBezTo>
                  <a:pt x="4178" y="8867"/>
                  <a:pt x="3826" y="8921"/>
                  <a:pt x="3497" y="8905"/>
                </a:cubicBezTo>
                <a:cubicBezTo>
                  <a:pt x="3362" y="8898"/>
                  <a:pt x="3235" y="8859"/>
                  <a:pt x="3101" y="8855"/>
                </a:cubicBezTo>
                <a:cubicBezTo>
                  <a:pt x="2971" y="8851"/>
                  <a:pt x="2831" y="8819"/>
                  <a:pt x="2704" y="8830"/>
                </a:cubicBezTo>
                <a:cubicBezTo>
                  <a:pt x="2512" y="8847"/>
                  <a:pt x="2301" y="8899"/>
                  <a:pt x="2108" y="8880"/>
                </a:cubicBezTo>
                <a:cubicBezTo>
                  <a:pt x="1984" y="8868"/>
                  <a:pt x="1864" y="8837"/>
                  <a:pt x="1736" y="8855"/>
                </a:cubicBezTo>
                <a:cubicBezTo>
                  <a:pt x="1611" y="8873"/>
                  <a:pt x="1391" y="8903"/>
                  <a:pt x="1290" y="8979"/>
                </a:cubicBezTo>
                <a:cubicBezTo>
                  <a:pt x="1232" y="9023"/>
                  <a:pt x="1275" y="9114"/>
                  <a:pt x="1265" y="9227"/>
                </a:cubicBezTo>
                <a:cubicBezTo>
                  <a:pt x="1242" y="9475"/>
                  <a:pt x="1193" y="9879"/>
                  <a:pt x="1265" y="10096"/>
                </a:cubicBezTo>
              </a:path>
              <a:path w="4838" h="3548">
                <a:moveTo>
                  <a:pt x="4961" y="10071"/>
                </a:moveTo>
                <a:cubicBezTo>
                  <a:pt x="5023" y="10034"/>
                  <a:pt x="5231" y="9996"/>
                  <a:pt x="5159" y="9996"/>
                </a:cubicBezTo>
                <a:cubicBezTo>
                  <a:pt x="5101" y="9996"/>
                  <a:pt x="5044" y="10015"/>
                  <a:pt x="4986" y="10021"/>
                </a:cubicBezTo>
                <a:cubicBezTo>
                  <a:pt x="4994" y="10021"/>
                  <a:pt x="5003" y="10021"/>
                  <a:pt x="5011" y="10021"/>
                </a:cubicBezTo>
                <a:cubicBezTo>
                  <a:pt x="5034" y="10021"/>
                  <a:pt x="5235" y="10027"/>
                  <a:pt x="5159" y="10046"/>
                </a:cubicBezTo>
                <a:cubicBezTo>
                  <a:pt x="5033" y="10078"/>
                  <a:pt x="5072" y="10034"/>
                  <a:pt x="5184" y="10021"/>
                </a:cubicBezTo>
                <a:cubicBezTo>
                  <a:pt x="5383" y="9998"/>
                  <a:pt x="5058" y="10021"/>
                  <a:pt x="5011" y="10021"/>
                </a:cubicBezTo>
                <a:cubicBezTo>
                  <a:pt x="4912" y="10021"/>
                  <a:pt x="5358" y="10021"/>
                  <a:pt x="5259" y="10021"/>
                </a:cubicBezTo>
                <a:cubicBezTo>
                  <a:pt x="5201" y="10021"/>
                  <a:pt x="5192" y="10021"/>
                  <a:pt x="5159" y="100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76160" y="4938840"/>
            <a:ext cx="393840" cy="285480"/>
          </a:xfrm>
          <a:custGeom>
            <a:avLst/>
            <a:gdLst/>
            <a:ahLst/>
            <a:rect l="l" t="t" r="r" b="b"/>
            <a:pathLst>
              <a:path w="1092" h="795">
                <a:moveTo>
                  <a:pt x="2158" y="14089"/>
                </a:moveTo>
                <a:cubicBezTo>
                  <a:pt x="2307" y="14089"/>
                  <a:pt x="2455" y="14089"/>
                  <a:pt x="2604" y="14089"/>
                </a:cubicBezTo>
              </a:path>
              <a:path w="1092" h="795">
                <a:moveTo>
                  <a:pt x="2853" y="13891"/>
                </a:moveTo>
                <a:cubicBezTo>
                  <a:pt x="2888" y="13975"/>
                  <a:pt x="2870" y="14020"/>
                  <a:pt x="2853" y="14114"/>
                </a:cubicBezTo>
                <a:cubicBezTo>
                  <a:pt x="2967" y="14137"/>
                  <a:pt x="3078" y="14119"/>
                  <a:pt x="3200" y="14114"/>
                </a:cubicBezTo>
                <a:cubicBezTo>
                  <a:pt x="3225" y="14114"/>
                  <a:pt x="3233" y="14114"/>
                  <a:pt x="3249" y="14114"/>
                </a:cubicBezTo>
              </a:path>
              <a:path w="1092" h="795">
                <a:moveTo>
                  <a:pt x="3249" y="13717"/>
                </a:moveTo>
                <a:cubicBezTo>
                  <a:pt x="3249" y="13982"/>
                  <a:pt x="3249" y="14246"/>
                  <a:pt x="3249" y="145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84200" y="5153040"/>
            <a:ext cx="142920" cy="17280"/>
          </a:xfrm>
          <a:custGeom>
            <a:avLst/>
            <a:gdLst/>
            <a:ahLst/>
            <a:rect l="l" t="t" r="r" b="b"/>
            <a:pathLst>
              <a:path w="398" h="51">
                <a:moveTo>
                  <a:pt x="3870" y="14312"/>
                </a:moveTo>
                <a:cubicBezTo>
                  <a:pt x="3797" y="14312"/>
                  <a:pt x="4101" y="14336"/>
                  <a:pt x="4118" y="14337"/>
                </a:cubicBezTo>
                <a:cubicBezTo>
                  <a:pt x="4196" y="14337"/>
                  <a:pt x="4214" y="14322"/>
                  <a:pt x="4242" y="143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68320" y="4938840"/>
            <a:ext cx="169920" cy="258480"/>
          </a:xfrm>
          <a:custGeom>
            <a:avLst/>
            <a:gdLst/>
            <a:ahLst/>
            <a:rect l="l" t="t" r="r" b="b"/>
            <a:pathLst>
              <a:path w="473" h="720">
                <a:moveTo>
                  <a:pt x="5011" y="13717"/>
                </a:moveTo>
                <a:cubicBezTo>
                  <a:pt x="5038" y="13773"/>
                  <a:pt x="4952" y="14005"/>
                  <a:pt x="4936" y="14089"/>
                </a:cubicBezTo>
                <a:cubicBezTo>
                  <a:pt x="4903" y="14257"/>
                  <a:pt x="4879" y="14331"/>
                  <a:pt x="5035" y="14412"/>
                </a:cubicBezTo>
                <a:cubicBezTo>
                  <a:pt x="5142" y="14467"/>
                  <a:pt x="5232" y="14378"/>
                  <a:pt x="5308" y="14312"/>
                </a:cubicBezTo>
                <a:cubicBezTo>
                  <a:pt x="5341" y="14283"/>
                  <a:pt x="5412" y="14214"/>
                  <a:pt x="5383" y="14163"/>
                </a:cubicBezTo>
                <a:cubicBezTo>
                  <a:pt x="5354" y="14112"/>
                  <a:pt x="5295" y="14069"/>
                  <a:pt x="5234" y="14089"/>
                </a:cubicBezTo>
                <a:cubicBezTo>
                  <a:pt x="5140" y="14120"/>
                  <a:pt x="5114" y="14177"/>
                  <a:pt x="5110" y="14263"/>
                </a:cubicBezTo>
                <a:cubicBezTo>
                  <a:pt x="5107" y="14321"/>
                  <a:pt x="5163" y="14369"/>
                  <a:pt x="5110" y="143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60640" y="3724200"/>
            <a:ext cx="3598560" cy="2367000"/>
          </a:xfrm>
          <a:custGeom>
            <a:avLst/>
            <a:gdLst/>
            <a:ahLst/>
            <a:rect l="l" t="t" r="r" b="b"/>
            <a:pathLst>
              <a:path w="9997" h="6574">
                <a:moveTo>
                  <a:pt x="3249" y="10344"/>
                </a:moveTo>
                <a:cubicBezTo>
                  <a:pt x="3249" y="10411"/>
                  <a:pt x="3245" y="10444"/>
                  <a:pt x="3225" y="10492"/>
                </a:cubicBezTo>
              </a:path>
              <a:path w="9997" h="6574">
                <a:moveTo>
                  <a:pt x="3225" y="10567"/>
                </a:moveTo>
                <a:lnTo>
                  <a:pt x="3225" y="10567"/>
                </a:lnTo>
              </a:path>
              <a:path w="9997" h="6574">
                <a:moveTo>
                  <a:pt x="13221" y="16892"/>
                </a:moveTo>
                <a:cubicBezTo>
                  <a:pt x="13213" y="16892"/>
                  <a:pt x="13204" y="16892"/>
                  <a:pt x="13196" y="16892"/>
                </a:cubicBezTo>
              </a:path>
              <a:path w="9997" h="6574">
                <a:moveTo>
                  <a:pt x="13196" y="16917"/>
                </a:moveTo>
                <a:lnTo>
                  <a:pt x="13196" y="16917"/>
                </a:lnTo>
              </a:path>
              <a:path w="9997" h="6574">
                <a:moveTo>
                  <a:pt x="13196" y="16892"/>
                </a:moveTo>
                <a:lnTo>
                  <a:pt x="13196" y="1689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44880" y="4589640"/>
            <a:ext cx="2394000" cy="1982520"/>
          </a:xfrm>
          <a:custGeom>
            <a:avLst/>
            <a:gdLst/>
            <a:ahLst/>
            <a:rect l="l" t="t" r="r" b="b"/>
            <a:pathLst>
              <a:path w="6649" h="5507">
                <a:moveTo>
                  <a:pt x="9054" y="12948"/>
                </a:moveTo>
                <a:cubicBezTo>
                  <a:pt x="8834" y="13154"/>
                  <a:pt x="8666" y="13347"/>
                  <a:pt x="8533" y="13643"/>
                </a:cubicBezTo>
                <a:cubicBezTo>
                  <a:pt x="8344" y="14063"/>
                  <a:pt x="8632" y="14254"/>
                  <a:pt x="8731" y="14635"/>
                </a:cubicBezTo>
                <a:cubicBezTo>
                  <a:pt x="8830" y="15013"/>
                  <a:pt x="8611" y="15354"/>
                  <a:pt x="8607" y="15726"/>
                </a:cubicBezTo>
                <a:cubicBezTo>
                  <a:pt x="8604" y="15991"/>
                  <a:pt x="8813" y="16238"/>
                  <a:pt x="8756" y="16495"/>
                </a:cubicBezTo>
                <a:cubicBezTo>
                  <a:pt x="8695" y="16767"/>
                  <a:pt x="8520" y="16802"/>
                  <a:pt x="8657" y="17041"/>
                </a:cubicBezTo>
                <a:cubicBezTo>
                  <a:pt x="8769" y="17236"/>
                  <a:pt x="8678" y="17334"/>
                  <a:pt x="8657" y="17537"/>
                </a:cubicBezTo>
                <a:cubicBezTo>
                  <a:pt x="8635" y="17752"/>
                  <a:pt x="8812" y="17901"/>
                  <a:pt x="8830" y="18107"/>
                </a:cubicBezTo>
                <a:cubicBezTo>
                  <a:pt x="8834" y="18148"/>
                  <a:pt x="8807" y="18180"/>
                  <a:pt x="8806" y="18207"/>
                </a:cubicBezTo>
                <a:cubicBezTo>
                  <a:pt x="8806" y="18215"/>
                  <a:pt x="8806" y="18223"/>
                  <a:pt x="8806" y="18231"/>
                </a:cubicBezTo>
              </a:path>
              <a:path w="6649" h="5507">
                <a:moveTo>
                  <a:pt x="9773" y="14263"/>
                </a:moveTo>
                <a:cubicBezTo>
                  <a:pt x="9898" y="14245"/>
                  <a:pt x="10016" y="14238"/>
                  <a:pt x="10145" y="14238"/>
                </a:cubicBezTo>
                <a:cubicBezTo>
                  <a:pt x="10162" y="14238"/>
                  <a:pt x="10178" y="14238"/>
                  <a:pt x="10195" y="14238"/>
                </a:cubicBezTo>
              </a:path>
              <a:path w="6649" h="5507">
                <a:moveTo>
                  <a:pt x="10492" y="14139"/>
                </a:moveTo>
                <a:cubicBezTo>
                  <a:pt x="10479" y="14242"/>
                  <a:pt x="10445" y="14318"/>
                  <a:pt x="10418" y="14412"/>
                </a:cubicBezTo>
                <a:cubicBezTo>
                  <a:pt x="10565" y="14443"/>
                  <a:pt x="10690" y="14419"/>
                  <a:pt x="10840" y="14412"/>
                </a:cubicBezTo>
                <a:cubicBezTo>
                  <a:pt x="10873" y="14412"/>
                  <a:pt x="10881" y="14403"/>
                  <a:pt x="10864" y="14362"/>
                </a:cubicBezTo>
              </a:path>
              <a:path w="6649" h="5507">
                <a:moveTo>
                  <a:pt x="10815" y="13990"/>
                </a:moveTo>
                <a:cubicBezTo>
                  <a:pt x="10790" y="14165"/>
                  <a:pt x="10768" y="14333"/>
                  <a:pt x="10765" y="14511"/>
                </a:cubicBezTo>
                <a:cubicBezTo>
                  <a:pt x="10764" y="14585"/>
                  <a:pt x="10765" y="14660"/>
                  <a:pt x="10765" y="14734"/>
                </a:cubicBezTo>
              </a:path>
              <a:path w="6649" h="5507">
                <a:moveTo>
                  <a:pt x="11261" y="14362"/>
                </a:moveTo>
                <a:cubicBezTo>
                  <a:pt x="11362" y="14362"/>
                  <a:pt x="11458" y="14383"/>
                  <a:pt x="11559" y="14387"/>
                </a:cubicBezTo>
                <a:cubicBezTo>
                  <a:pt x="11625" y="14389"/>
                  <a:pt x="11633" y="14371"/>
                  <a:pt x="11633" y="14436"/>
                </a:cubicBezTo>
              </a:path>
              <a:path w="6649" h="5507">
                <a:moveTo>
                  <a:pt x="12030" y="14139"/>
                </a:moveTo>
                <a:cubicBezTo>
                  <a:pt x="12030" y="14179"/>
                  <a:pt x="12168" y="14146"/>
                  <a:pt x="12254" y="14139"/>
                </a:cubicBezTo>
              </a:path>
              <a:path w="6649" h="5507">
                <a:moveTo>
                  <a:pt x="12526" y="14039"/>
                </a:moveTo>
                <a:cubicBezTo>
                  <a:pt x="12469" y="14142"/>
                  <a:pt x="12456" y="14270"/>
                  <a:pt x="12427" y="14387"/>
                </a:cubicBezTo>
                <a:cubicBezTo>
                  <a:pt x="12402" y="14490"/>
                  <a:pt x="12398" y="14584"/>
                  <a:pt x="12526" y="14610"/>
                </a:cubicBezTo>
                <a:cubicBezTo>
                  <a:pt x="12598" y="14625"/>
                  <a:pt x="12768" y="14592"/>
                  <a:pt x="12824" y="14536"/>
                </a:cubicBezTo>
                <a:cubicBezTo>
                  <a:pt x="12863" y="14497"/>
                  <a:pt x="12868" y="14435"/>
                  <a:pt x="12874" y="14387"/>
                </a:cubicBezTo>
                <a:cubicBezTo>
                  <a:pt x="12768" y="14348"/>
                  <a:pt x="12712" y="14312"/>
                  <a:pt x="12626" y="14412"/>
                </a:cubicBezTo>
                <a:cubicBezTo>
                  <a:pt x="12550" y="14500"/>
                  <a:pt x="12582" y="14541"/>
                  <a:pt x="12601" y="14635"/>
                </a:cubicBezTo>
              </a:path>
              <a:path w="6649" h="5507">
                <a:moveTo>
                  <a:pt x="10592" y="14908"/>
                </a:moveTo>
                <a:cubicBezTo>
                  <a:pt x="10592" y="14861"/>
                  <a:pt x="10591" y="15186"/>
                  <a:pt x="10592" y="15205"/>
                </a:cubicBezTo>
                <a:cubicBezTo>
                  <a:pt x="10598" y="15345"/>
                  <a:pt x="10596" y="15297"/>
                  <a:pt x="10616" y="15379"/>
                </a:cubicBezTo>
              </a:path>
              <a:path w="6649" h="5507">
                <a:moveTo>
                  <a:pt x="10492" y="15156"/>
                </a:moveTo>
                <a:cubicBezTo>
                  <a:pt x="10554" y="15254"/>
                  <a:pt x="10593" y="15354"/>
                  <a:pt x="10716" y="15379"/>
                </a:cubicBezTo>
                <a:cubicBezTo>
                  <a:pt x="10741" y="15313"/>
                  <a:pt x="10772" y="15244"/>
                  <a:pt x="10790" y="15180"/>
                </a:cubicBezTo>
              </a:path>
              <a:path w="6649" h="5507">
                <a:moveTo>
                  <a:pt x="9922" y="16222"/>
                </a:moveTo>
                <a:cubicBezTo>
                  <a:pt x="10047" y="16211"/>
                  <a:pt x="10168" y="16179"/>
                  <a:pt x="10294" y="16173"/>
                </a:cubicBezTo>
                <a:cubicBezTo>
                  <a:pt x="10302" y="16173"/>
                  <a:pt x="10311" y="16173"/>
                  <a:pt x="10319" y="16173"/>
                </a:cubicBezTo>
              </a:path>
              <a:path w="6649" h="5507">
                <a:moveTo>
                  <a:pt x="10468" y="15949"/>
                </a:moveTo>
                <a:cubicBezTo>
                  <a:pt x="10459" y="16034"/>
                  <a:pt x="10432" y="16114"/>
                  <a:pt x="10418" y="16197"/>
                </a:cubicBezTo>
                <a:cubicBezTo>
                  <a:pt x="10516" y="16205"/>
                  <a:pt x="10573" y="16185"/>
                  <a:pt x="10666" y="16148"/>
                </a:cubicBezTo>
                <a:cubicBezTo>
                  <a:pt x="10683" y="16140"/>
                  <a:pt x="10699" y="16131"/>
                  <a:pt x="10716" y="16123"/>
                </a:cubicBezTo>
              </a:path>
              <a:path w="6649" h="5507">
                <a:moveTo>
                  <a:pt x="10666" y="15900"/>
                </a:moveTo>
                <a:cubicBezTo>
                  <a:pt x="10666" y="16063"/>
                  <a:pt x="10696" y="16211"/>
                  <a:pt x="10716" y="16371"/>
                </a:cubicBezTo>
                <a:cubicBezTo>
                  <a:pt x="10716" y="16413"/>
                  <a:pt x="10716" y="16421"/>
                  <a:pt x="10716" y="16446"/>
                </a:cubicBezTo>
              </a:path>
              <a:path w="6649" h="5507">
                <a:moveTo>
                  <a:pt x="11311" y="14635"/>
                </a:moveTo>
                <a:cubicBezTo>
                  <a:pt x="11311" y="14786"/>
                  <a:pt x="11341" y="14958"/>
                  <a:pt x="11361" y="15106"/>
                </a:cubicBezTo>
                <a:cubicBezTo>
                  <a:pt x="11380" y="15221"/>
                  <a:pt x="11388" y="15237"/>
                  <a:pt x="11385" y="15304"/>
                </a:cubicBezTo>
              </a:path>
              <a:path w="6649" h="5507">
                <a:moveTo>
                  <a:pt x="11187" y="15131"/>
                </a:moveTo>
                <a:cubicBezTo>
                  <a:pt x="11204" y="15198"/>
                  <a:pt x="11265" y="15321"/>
                  <a:pt x="11336" y="15354"/>
                </a:cubicBezTo>
                <a:cubicBezTo>
                  <a:pt x="11457" y="15410"/>
                  <a:pt x="11502" y="15251"/>
                  <a:pt x="11534" y="15180"/>
                </a:cubicBezTo>
                <a:cubicBezTo>
                  <a:pt x="11554" y="15140"/>
                  <a:pt x="11563" y="15134"/>
                  <a:pt x="11559" y="15106"/>
                </a:cubicBezTo>
              </a:path>
              <a:path w="6649" h="5507">
                <a:moveTo>
                  <a:pt x="11261" y="16024"/>
                </a:moveTo>
                <a:cubicBezTo>
                  <a:pt x="11274" y="16112"/>
                  <a:pt x="11299" y="16202"/>
                  <a:pt x="11311" y="16297"/>
                </a:cubicBezTo>
                <a:cubicBezTo>
                  <a:pt x="11311" y="16338"/>
                  <a:pt x="11311" y="16362"/>
                  <a:pt x="11311" y="16321"/>
                </a:cubicBezTo>
              </a:path>
              <a:path w="6649" h="5507">
                <a:moveTo>
                  <a:pt x="11162" y="16222"/>
                </a:moveTo>
                <a:cubicBezTo>
                  <a:pt x="11254" y="16209"/>
                  <a:pt x="11342" y="16179"/>
                  <a:pt x="11435" y="16173"/>
                </a:cubicBezTo>
                <a:cubicBezTo>
                  <a:pt x="11443" y="16173"/>
                  <a:pt x="11452" y="16173"/>
                  <a:pt x="11460" y="16173"/>
                </a:cubicBezTo>
              </a:path>
              <a:path w="6649" h="5507">
                <a:moveTo>
                  <a:pt x="12452" y="14759"/>
                </a:moveTo>
                <a:cubicBezTo>
                  <a:pt x="12444" y="14751"/>
                  <a:pt x="12435" y="14742"/>
                  <a:pt x="12427" y="14734"/>
                </a:cubicBezTo>
                <a:cubicBezTo>
                  <a:pt x="12427" y="14867"/>
                  <a:pt x="12431" y="15027"/>
                  <a:pt x="12452" y="15156"/>
                </a:cubicBezTo>
                <a:cubicBezTo>
                  <a:pt x="12472" y="15196"/>
                  <a:pt x="12481" y="15202"/>
                  <a:pt x="12477" y="15230"/>
                </a:cubicBezTo>
              </a:path>
              <a:path w="6649" h="5507">
                <a:moveTo>
                  <a:pt x="12303" y="15131"/>
                </a:moveTo>
                <a:cubicBezTo>
                  <a:pt x="12330" y="15211"/>
                  <a:pt x="12419" y="15240"/>
                  <a:pt x="12502" y="15280"/>
                </a:cubicBezTo>
                <a:cubicBezTo>
                  <a:pt x="12545" y="15301"/>
                  <a:pt x="12557" y="15305"/>
                  <a:pt x="12576" y="15329"/>
                </a:cubicBezTo>
                <a:cubicBezTo>
                  <a:pt x="12593" y="15263"/>
                  <a:pt x="12675" y="15211"/>
                  <a:pt x="12675" y="15131"/>
                </a:cubicBezTo>
                <a:cubicBezTo>
                  <a:pt x="12667" y="15139"/>
                  <a:pt x="12658" y="15148"/>
                  <a:pt x="12650" y="15156"/>
                </a:cubicBezTo>
              </a:path>
              <a:path w="6649" h="5507">
                <a:moveTo>
                  <a:pt x="12030" y="15925"/>
                </a:moveTo>
                <a:cubicBezTo>
                  <a:pt x="12030" y="15981"/>
                  <a:pt x="12010" y="15958"/>
                  <a:pt x="12005" y="15999"/>
                </a:cubicBezTo>
                <a:cubicBezTo>
                  <a:pt x="11999" y="16049"/>
                  <a:pt x="11993" y="16073"/>
                  <a:pt x="11981" y="16123"/>
                </a:cubicBezTo>
                <a:cubicBezTo>
                  <a:pt x="11963" y="16197"/>
                  <a:pt x="11985" y="16285"/>
                  <a:pt x="12005" y="16346"/>
                </a:cubicBezTo>
                <a:cubicBezTo>
                  <a:pt x="12015" y="16378"/>
                  <a:pt x="12104" y="16415"/>
                  <a:pt x="12154" y="16421"/>
                </a:cubicBezTo>
                <a:cubicBezTo>
                  <a:pt x="12217" y="16428"/>
                  <a:pt x="12306" y="16434"/>
                  <a:pt x="12353" y="16396"/>
                </a:cubicBezTo>
                <a:cubicBezTo>
                  <a:pt x="12393" y="16364"/>
                  <a:pt x="12401" y="16359"/>
                  <a:pt x="12427" y="16321"/>
                </a:cubicBezTo>
                <a:cubicBezTo>
                  <a:pt x="12455" y="16280"/>
                  <a:pt x="12469" y="16237"/>
                  <a:pt x="12402" y="16222"/>
                </a:cubicBezTo>
                <a:cubicBezTo>
                  <a:pt x="12339" y="16208"/>
                  <a:pt x="12362" y="16205"/>
                  <a:pt x="12328" y="16222"/>
                </a:cubicBezTo>
                <a:cubicBezTo>
                  <a:pt x="12305" y="16234"/>
                  <a:pt x="12268" y="16324"/>
                  <a:pt x="12254" y="16371"/>
                </a:cubicBezTo>
                <a:cubicBezTo>
                  <a:pt x="12240" y="16416"/>
                  <a:pt x="12269" y="16417"/>
                  <a:pt x="12278" y="16446"/>
                </a:cubicBezTo>
              </a:path>
              <a:path w="6649" h="5507">
                <a:moveTo>
                  <a:pt x="11237" y="17214"/>
                </a:moveTo>
                <a:cubicBezTo>
                  <a:pt x="11324" y="17214"/>
                  <a:pt x="11402" y="17220"/>
                  <a:pt x="11485" y="17190"/>
                </a:cubicBezTo>
                <a:cubicBezTo>
                  <a:pt x="11558" y="17164"/>
                  <a:pt x="11338" y="17229"/>
                  <a:pt x="11261" y="17239"/>
                </a:cubicBezTo>
                <a:cubicBezTo>
                  <a:pt x="11329" y="17231"/>
                  <a:pt x="11390" y="17214"/>
                  <a:pt x="11460" y="17214"/>
                </a:cubicBezTo>
                <a:cubicBezTo>
                  <a:pt x="11468" y="17214"/>
                  <a:pt x="11477" y="17214"/>
                  <a:pt x="11485" y="17214"/>
                </a:cubicBezTo>
              </a:path>
              <a:path w="6649" h="5507">
                <a:moveTo>
                  <a:pt x="10592" y="16942"/>
                </a:moveTo>
                <a:cubicBezTo>
                  <a:pt x="10592" y="16872"/>
                  <a:pt x="10544" y="17105"/>
                  <a:pt x="10542" y="17115"/>
                </a:cubicBezTo>
                <a:cubicBezTo>
                  <a:pt x="10529" y="17171"/>
                  <a:pt x="10467" y="17354"/>
                  <a:pt x="10567" y="17388"/>
                </a:cubicBezTo>
                <a:cubicBezTo>
                  <a:pt x="10653" y="17417"/>
                  <a:pt x="10761" y="17385"/>
                  <a:pt x="10815" y="17314"/>
                </a:cubicBezTo>
                <a:cubicBezTo>
                  <a:pt x="10857" y="17260"/>
                  <a:pt x="10856" y="17215"/>
                  <a:pt x="10840" y="17165"/>
                </a:cubicBezTo>
                <a:cubicBezTo>
                  <a:pt x="10734" y="17130"/>
                  <a:pt x="10704" y="17185"/>
                  <a:pt x="10691" y="17289"/>
                </a:cubicBezTo>
                <a:cubicBezTo>
                  <a:pt x="10685" y="17341"/>
                  <a:pt x="10704" y="17328"/>
                  <a:pt x="10716" y="17363"/>
                </a:cubicBezTo>
              </a:path>
              <a:path w="6649" h="5507">
                <a:moveTo>
                  <a:pt x="11683" y="16991"/>
                </a:moveTo>
                <a:cubicBezTo>
                  <a:pt x="11664" y="17060"/>
                  <a:pt x="11658" y="17095"/>
                  <a:pt x="11658" y="17165"/>
                </a:cubicBezTo>
                <a:cubicBezTo>
                  <a:pt x="11736" y="17154"/>
                  <a:pt x="11817" y="17143"/>
                  <a:pt x="11857" y="17090"/>
                </a:cubicBezTo>
              </a:path>
              <a:path w="6649" h="5507">
                <a:moveTo>
                  <a:pt x="11857" y="16867"/>
                </a:moveTo>
                <a:cubicBezTo>
                  <a:pt x="11857" y="17002"/>
                  <a:pt x="11852" y="17144"/>
                  <a:pt x="11881" y="17264"/>
                </a:cubicBezTo>
                <a:cubicBezTo>
                  <a:pt x="11881" y="17272"/>
                  <a:pt x="11881" y="17281"/>
                  <a:pt x="11881" y="17289"/>
                </a:cubicBezTo>
              </a:path>
              <a:path w="6649" h="5507">
                <a:moveTo>
                  <a:pt x="12303" y="17066"/>
                </a:moveTo>
                <a:cubicBezTo>
                  <a:pt x="12369" y="17066"/>
                  <a:pt x="12436" y="17066"/>
                  <a:pt x="12502" y="17066"/>
                </a:cubicBezTo>
              </a:path>
              <a:path w="6649" h="5507">
                <a:moveTo>
                  <a:pt x="12353" y="17214"/>
                </a:moveTo>
                <a:cubicBezTo>
                  <a:pt x="12406" y="17214"/>
                  <a:pt x="12450" y="17195"/>
                  <a:pt x="12502" y="17190"/>
                </a:cubicBezTo>
                <a:cubicBezTo>
                  <a:pt x="12510" y="17190"/>
                  <a:pt x="12518" y="17190"/>
                  <a:pt x="12526" y="17190"/>
                </a:cubicBezTo>
              </a:path>
              <a:path w="6649" h="5507">
                <a:moveTo>
                  <a:pt x="13196" y="16892"/>
                </a:moveTo>
                <a:cubicBezTo>
                  <a:pt x="13211" y="16833"/>
                  <a:pt x="13234" y="16823"/>
                  <a:pt x="13295" y="16818"/>
                </a:cubicBezTo>
                <a:cubicBezTo>
                  <a:pt x="13344" y="16814"/>
                  <a:pt x="13381" y="16812"/>
                  <a:pt x="13419" y="16842"/>
                </a:cubicBezTo>
                <a:cubicBezTo>
                  <a:pt x="13476" y="16887"/>
                  <a:pt x="13472" y="16917"/>
                  <a:pt x="13444" y="16966"/>
                </a:cubicBezTo>
                <a:cubicBezTo>
                  <a:pt x="13402" y="17039"/>
                  <a:pt x="13353" y="17102"/>
                  <a:pt x="13295" y="17165"/>
                </a:cubicBezTo>
                <a:cubicBezTo>
                  <a:pt x="13250" y="17214"/>
                  <a:pt x="13201" y="17244"/>
                  <a:pt x="13196" y="17314"/>
                </a:cubicBezTo>
                <a:cubicBezTo>
                  <a:pt x="13196" y="17330"/>
                  <a:pt x="13196" y="17347"/>
                  <a:pt x="13196" y="17363"/>
                </a:cubicBezTo>
                <a:cubicBezTo>
                  <a:pt x="13207" y="17319"/>
                  <a:pt x="13238" y="17277"/>
                  <a:pt x="13271" y="17239"/>
                </a:cubicBezTo>
                <a:cubicBezTo>
                  <a:pt x="13340" y="17160"/>
                  <a:pt x="13370" y="17235"/>
                  <a:pt x="13395" y="17289"/>
                </a:cubicBezTo>
                <a:cubicBezTo>
                  <a:pt x="13429" y="17361"/>
                  <a:pt x="13522" y="17361"/>
                  <a:pt x="13593" y="17314"/>
                </a:cubicBezTo>
                <a:cubicBezTo>
                  <a:pt x="13593" y="17289"/>
                  <a:pt x="13593" y="17281"/>
                  <a:pt x="13618" y="17289"/>
                </a:cubicBezTo>
              </a:path>
              <a:path w="6649" h="5507">
                <a:moveTo>
                  <a:pt x="10046" y="16718"/>
                </a:moveTo>
                <a:cubicBezTo>
                  <a:pt x="10120" y="16694"/>
                  <a:pt x="10209" y="16663"/>
                  <a:pt x="10294" y="16644"/>
                </a:cubicBezTo>
                <a:cubicBezTo>
                  <a:pt x="10445" y="16610"/>
                  <a:pt x="10610" y="16599"/>
                  <a:pt x="10765" y="16594"/>
                </a:cubicBezTo>
                <a:cubicBezTo>
                  <a:pt x="11031" y="16586"/>
                  <a:pt x="11297" y="16597"/>
                  <a:pt x="11559" y="16570"/>
                </a:cubicBezTo>
                <a:cubicBezTo>
                  <a:pt x="11640" y="16562"/>
                  <a:pt x="11729" y="16551"/>
                  <a:pt x="11807" y="16545"/>
                </a:cubicBezTo>
                <a:cubicBezTo>
                  <a:pt x="11903" y="16537"/>
                  <a:pt x="11986" y="16567"/>
                  <a:pt x="12080" y="16570"/>
                </a:cubicBezTo>
                <a:cubicBezTo>
                  <a:pt x="12185" y="16573"/>
                  <a:pt x="12275" y="16555"/>
                  <a:pt x="12378" y="16545"/>
                </a:cubicBezTo>
                <a:cubicBezTo>
                  <a:pt x="12438" y="16539"/>
                  <a:pt x="12494" y="16535"/>
                  <a:pt x="12551" y="16520"/>
                </a:cubicBezTo>
                <a:cubicBezTo>
                  <a:pt x="12610" y="16504"/>
                  <a:pt x="12638" y="16498"/>
                  <a:pt x="12700" y="16495"/>
                </a:cubicBezTo>
                <a:cubicBezTo>
                  <a:pt x="12725" y="16495"/>
                  <a:pt x="12733" y="16495"/>
                  <a:pt x="12750" y="16495"/>
                </a:cubicBezTo>
                <a:cubicBezTo>
                  <a:pt x="12750" y="16367"/>
                  <a:pt x="12754" y="16248"/>
                  <a:pt x="12725" y="16123"/>
                </a:cubicBezTo>
                <a:cubicBezTo>
                  <a:pt x="12705" y="16036"/>
                  <a:pt x="12693" y="15959"/>
                  <a:pt x="12675" y="15875"/>
                </a:cubicBezTo>
                <a:cubicBezTo>
                  <a:pt x="12660" y="15807"/>
                  <a:pt x="12655" y="15768"/>
                  <a:pt x="12650" y="15701"/>
                </a:cubicBezTo>
                <a:cubicBezTo>
                  <a:pt x="12523" y="15701"/>
                  <a:pt x="12404" y="15722"/>
                  <a:pt x="12278" y="15726"/>
                </a:cubicBezTo>
                <a:cubicBezTo>
                  <a:pt x="12068" y="15733"/>
                  <a:pt x="11863" y="15729"/>
                  <a:pt x="11658" y="15751"/>
                </a:cubicBezTo>
                <a:cubicBezTo>
                  <a:pt x="11445" y="15774"/>
                  <a:pt x="11225" y="15755"/>
                  <a:pt x="11013" y="15776"/>
                </a:cubicBezTo>
                <a:cubicBezTo>
                  <a:pt x="10865" y="15790"/>
                  <a:pt x="10714" y="15780"/>
                  <a:pt x="10567" y="15801"/>
                </a:cubicBezTo>
                <a:cubicBezTo>
                  <a:pt x="10459" y="15817"/>
                  <a:pt x="10351" y="15841"/>
                  <a:pt x="10244" y="15850"/>
                </a:cubicBezTo>
                <a:cubicBezTo>
                  <a:pt x="10183" y="15855"/>
                  <a:pt x="10148" y="15861"/>
                  <a:pt x="10096" y="15875"/>
                </a:cubicBezTo>
                <a:cubicBezTo>
                  <a:pt x="10062" y="15884"/>
                  <a:pt x="10002" y="15885"/>
                  <a:pt x="9971" y="15900"/>
                </a:cubicBezTo>
                <a:cubicBezTo>
                  <a:pt x="9935" y="15917"/>
                  <a:pt x="9911" y="15936"/>
                  <a:pt x="9872" y="15949"/>
                </a:cubicBezTo>
                <a:cubicBezTo>
                  <a:pt x="9839" y="15960"/>
                  <a:pt x="9808" y="15978"/>
                  <a:pt x="9798" y="15999"/>
                </a:cubicBezTo>
                <a:cubicBezTo>
                  <a:pt x="9759" y="16087"/>
                  <a:pt x="9849" y="16260"/>
                  <a:pt x="9872" y="16346"/>
                </a:cubicBezTo>
                <a:cubicBezTo>
                  <a:pt x="9905" y="16465"/>
                  <a:pt x="9950" y="16556"/>
                  <a:pt x="9996" y="16669"/>
                </a:cubicBezTo>
                <a:cubicBezTo>
                  <a:pt x="10017" y="16720"/>
                  <a:pt x="10046" y="16761"/>
                  <a:pt x="10071" y="16793"/>
                </a:cubicBezTo>
              </a:path>
              <a:path w="6649" h="5507">
                <a:moveTo>
                  <a:pt x="12750" y="17562"/>
                </a:moveTo>
                <a:cubicBezTo>
                  <a:pt x="12816" y="17636"/>
                  <a:pt x="12868" y="17660"/>
                  <a:pt x="12973" y="17711"/>
                </a:cubicBezTo>
                <a:cubicBezTo>
                  <a:pt x="13122" y="17783"/>
                  <a:pt x="13262" y="17768"/>
                  <a:pt x="13419" y="17760"/>
                </a:cubicBezTo>
                <a:cubicBezTo>
                  <a:pt x="13557" y="17753"/>
                  <a:pt x="13685" y="17726"/>
                  <a:pt x="13791" y="17636"/>
                </a:cubicBezTo>
                <a:cubicBezTo>
                  <a:pt x="13879" y="17562"/>
                  <a:pt x="13947" y="17481"/>
                  <a:pt x="13965" y="17363"/>
                </a:cubicBezTo>
                <a:cubicBezTo>
                  <a:pt x="13990" y="17195"/>
                  <a:pt x="13961" y="17002"/>
                  <a:pt x="13940" y="16842"/>
                </a:cubicBezTo>
                <a:cubicBezTo>
                  <a:pt x="13926" y="16738"/>
                  <a:pt x="13891" y="16689"/>
                  <a:pt x="13841" y="16594"/>
                </a:cubicBezTo>
                <a:cubicBezTo>
                  <a:pt x="13800" y="16516"/>
                  <a:pt x="13767" y="16471"/>
                  <a:pt x="13692" y="16421"/>
                </a:cubicBezTo>
                <a:cubicBezTo>
                  <a:pt x="13606" y="16364"/>
                  <a:pt x="13517" y="16371"/>
                  <a:pt x="13419" y="16371"/>
                </a:cubicBezTo>
                <a:cubicBezTo>
                  <a:pt x="13296" y="16371"/>
                  <a:pt x="13252" y="16402"/>
                  <a:pt x="13146" y="16446"/>
                </a:cubicBezTo>
                <a:cubicBezTo>
                  <a:pt x="13076" y="16475"/>
                  <a:pt x="12977" y="16513"/>
                  <a:pt x="12923" y="16570"/>
                </a:cubicBezTo>
                <a:cubicBezTo>
                  <a:pt x="12860" y="16636"/>
                  <a:pt x="12800" y="16757"/>
                  <a:pt x="12774" y="16842"/>
                </a:cubicBezTo>
                <a:cubicBezTo>
                  <a:pt x="12744" y="16939"/>
                  <a:pt x="12703" y="17040"/>
                  <a:pt x="12700" y="17140"/>
                </a:cubicBezTo>
                <a:cubicBezTo>
                  <a:pt x="12697" y="17231"/>
                  <a:pt x="12675" y="17274"/>
                  <a:pt x="12675" y="17363"/>
                </a:cubicBezTo>
                <a:cubicBezTo>
                  <a:pt x="12675" y="17435"/>
                  <a:pt x="12697" y="17472"/>
                  <a:pt x="12700" y="17537"/>
                </a:cubicBezTo>
                <a:cubicBezTo>
                  <a:pt x="12703" y="17596"/>
                  <a:pt x="12727" y="17639"/>
                  <a:pt x="12750" y="17686"/>
                </a:cubicBezTo>
                <a:cubicBezTo>
                  <a:pt x="12767" y="17720"/>
                  <a:pt x="12787" y="17720"/>
                  <a:pt x="12799" y="17735"/>
                </a:cubicBezTo>
              </a:path>
              <a:path w="6649" h="5507">
                <a:moveTo>
                  <a:pt x="13444" y="12750"/>
                </a:moveTo>
                <a:cubicBezTo>
                  <a:pt x="13503" y="12792"/>
                  <a:pt x="13568" y="12753"/>
                  <a:pt x="13643" y="12750"/>
                </a:cubicBezTo>
                <a:cubicBezTo>
                  <a:pt x="13742" y="12746"/>
                  <a:pt x="13841" y="12750"/>
                  <a:pt x="13940" y="12750"/>
                </a:cubicBezTo>
              </a:path>
              <a:path w="6649" h="5507">
                <a:moveTo>
                  <a:pt x="13965" y="12849"/>
                </a:moveTo>
                <a:cubicBezTo>
                  <a:pt x="13940" y="12921"/>
                  <a:pt x="13883" y="13008"/>
                  <a:pt x="13891" y="13097"/>
                </a:cubicBezTo>
                <a:cubicBezTo>
                  <a:pt x="13906" y="13256"/>
                  <a:pt x="13982" y="13309"/>
                  <a:pt x="14064" y="13444"/>
                </a:cubicBezTo>
                <a:cubicBezTo>
                  <a:pt x="14180" y="13636"/>
                  <a:pt x="14125" y="13788"/>
                  <a:pt x="14163" y="13990"/>
                </a:cubicBezTo>
                <a:cubicBezTo>
                  <a:pt x="14205" y="14213"/>
                  <a:pt x="14353" y="14343"/>
                  <a:pt x="14486" y="14511"/>
                </a:cubicBezTo>
                <a:cubicBezTo>
                  <a:pt x="14624" y="14685"/>
                  <a:pt x="14526" y="14852"/>
                  <a:pt x="14511" y="15056"/>
                </a:cubicBezTo>
                <a:cubicBezTo>
                  <a:pt x="14497" y="15254"/>
                  <a:pt x="14620" y="15421"/>
                  <a:pt x="14635" y="15627"/>
                </a:cubicBezTo>
                <a:cubicBezTo>
                  <a:pt x="14649" y="15811"/>
                  <a:pt x="14637" y="16016"/>
                  <a:pt x="14610" y="16197"/>
                </a:cubicBezTo>
                <a:cubicBezTo>
                  <a:pt x="14592" y="16323"/>
                  <a:pt x="14603" y="16297"/>
                  <a:pt x="14635" y="16396"/>
                </a:cubicBezTo>
                <a:cubicBezTo>
                  <a:pt x="14671" y="16507"/>
                  <a:pt x="14697" y="16594"/>
                  <a:pt x="14709" y="16718"/>
                </a:cubicBezTo>
                <a:cubicBezTo>
                  <a:pt x="14727" y="16906"/>
                  <a:pt x="14721" y="17077"/>
                  <a:pt x="14709" y="17264"/>
                </a:cubicBezTo>
                <a:cubicBezTo>
                  <a:pt x="14701" y="17394"/>
                  <a:pt x="14704" y="17516"/>
                  <a:pt x="14759" y="17636"/>
                </a:cubicBezTo>
                <a:cubicBezTo>
                  <a:pt x="14812" y="17752"/>
                  <a:pt x="14918" y="17826"/>
                  <a:pt x="14982" y="17934"/>
                </a:cubicBezTo>
                <a:cubicBezTo>
                  <a:pt x="15014" y="17989"/>
                  <a:pt x="15010" y="18055"/>
                  <a:pt x="15032" y="18107"/>
                </a:cubicBezTo>
                <a:cubicBezTo>
                  <a:pt x="15057" y="18166"/>
                  <a:pt x="15076" y="18175"/>
                  <a:pt x="15106" y="182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11920" y="5295960"/>
            <a:ext cx="874800" cy="1285920"/>
          </a:xfrm>
          <a:custGeom>
            <a:avLst/>
            <a:gdLst/>
            <a:ahLst/>
            <a:rect l="l" t="t" r="r" b="b"/>
            <a:pathLst>
              <a:path w="2432" h="3573">
                <a:moveTo>
                  <a:pt x="16421" y="15553"/>
                </a:moveTo>
                <a:cubicBezTo>
                  <a:pt x="16480" y="15625"/>
                  <a:pt x="16530" y="15705"/>
                  <a:pt x="16594" y="15776"/>
                </a:cubicBezTo>
                <a:cubicBezTo>
                  <a:pt x="16653" y="15706"/>
                  <a:pt x="16686" y="15621"/>
                  <a:pt x="16743" y="15553"/>
                </a:cubicBezTo>
                <a:cubicBezTo>
                  <a:pt x="16751" y="15545"/>
                  <a:pt x="16760" y="15536"/>
                  <a:pt x="16768" y="15528"/>
                </a:cubicBezTo>
              </a:path>
              <a:path w="2432" h="3573">
                <a:moveTo>
                  <a:pt x="16446" y="16297"/>
                </a:moveTo>
                <a:cubicBezTo>
                  <a:pt x="16446" y="16380"/>
                  <a:pt x="16446" y="16462"/>
                  <a:pt x="16446" y="16545"/>
                </a:cubicBezTo>
                <a:cubicBezTo>
                  <a:pt x="16568" y="16536"/>
                  <a:pt x="16676" y="16499"/>
                  <a:pt x="16793" y="16470"/>
                </a:cubicBezTo>
                <a:cubicBezTo>
                  <a:pt x="16801" y="16470"/>
                  <a:pt x="16810" y="16470"/>
                  <a:pt x="16818" y="16470"/>
                </a:cubicBezTo>
              </a:path>
              <a:path w="2432" h="3573">
                <a:moveTo>
                  <a:pt x="16768" y="16197"/>
                </a:moveTo>
                <a:cubicBezTo>
                  <a:pt x="16691" y="16147"/>
                  <a:pt x="16768" y="16461"/>
                  <a:pt x="16768" y="16470"/>
                </a:cubicBezTo>
                <a:cubicBezTo>
                  <a:pt x="16769" y="16493"/>
                  <a:pt x="16754" y="16886"/>
                  <a:pt x="16793" y="16917"/>
                </a:cubicBezTo>
                <a:cubicBezTo>
                  <a:pt x="16801" y="16909"/>
                  <a:pt x="16810" y="16900"/>
                  <a:pt x="16818" y="16892"/>
                </a:cubicBezTo>
              </a:path>
              <a:path w="2432" h="3573">
                <a:moveTo>
                  <a:pt x="17363" y="14759"/>
                </a:moveTo>
                <a:cubicBezTo>
                  <a:pt x="17363" y="14734"/>
                  <a:pt x="17363" y="14726"/>
                  <a:pt x="17363" y="14709"/>
                </a:cubicBezTo>
                <a:cubicBezTo>
                  <a:pt x="17392" y="14856"/>
                  <a:pt x="17429" y="15000"/>
                  <a:pt x="17438" y="15156"/>
                </a:cubicBezTo>
                <a:cubicBezTo>
                  <a:pt x="17440" y="15194"/>
                  <a:pt x="17478" y="15440"/>
                  <a:pt x="17438" y="15453"/>
                </a:cubicBezTo>
              </a:path>
              <a:path w="2432" h="3573">
                <a:moveTo>
                  <a:pt x="17338" y="15329"/>
                </a:moveTo>
                <a:cubicBezTo>
                  <a:pt x="17363" y="15387"/>
                  <a:pt x="17439" y="15498"/>
                  <a:pt x="17487" y="15528"/>
                </a:cubicBezTo>
                <a:cubicBezTo>
                  <a:pt x="17514" y="15545"/>
                  <a:pt x="17657" y="15336"/>
                  <a:pt x="17686" y="15304"/>
                </a:cubicBezTo>
              </a:path>
              <a:path w="2432" h="3573">
                <a:moveTo>
                  <a:pt x="17388" y="16396"/>
                </a:moveTo>
                <a:cubicBezTo>
                  <a:pt x="17388" y="16358"/>
                  <a:pt x="17411" y="16633"/>
                  <a:pt x="17413" y="16694"/>
                </a:cubicBezTo>
                <a:cubicBezTo>
                  <a:pt x="17415" y="16762"/>
                  <a:pt x="17431" y="16779"/>
                  <a:pt x="17388" y="16793"/>
                </a:cubicBezTo>
              </a:path>
              <a:path w="2432" h="3573">
                <a:moveTo>
                  <a:pt x="17264" y="16644"/>
                </a:moveTo>
                <a:cubicBezTo>
                  <a:pt x="17331" y="16644"/>
                  <a:pt x="17425" y="16634"/>
                  <a:pt x="17487" y="16619"/>
                </a:cubicBezTo>
                <a:cubicBezTo>
                  <a:pt x="17528" y="16599"/>
                  <a:pt x="17534" y="16590"/>
                  <a:pt x="17562" y="16594"/>
                </a:cubicBezTo>
              </a:path>
              <a:path w="2432" h="3573">
                <a:moveTo>
                  <a:pt x="18455" y="14808"/>
                </a:moveTo>
                <a:cubicBezTo>
                  <a:pt x="18455" y="14717"/>
                  <a:pt x="18459" y="14943"/>
                  <a:pt x="18479" y="15032"/>
                </a:cubicBezTo>
                <a:cubicBezTo>
                  <a:pt x="18507" y="15156"/>
                  <a:pt x="18531" y="15309"/>
                  <a:pt x="18579" y="15429"/>
                </a:cubicBezTo>
                <a:cubicBezTo>
                  <a:pt x="18591" y="15459"/>
                  <a:pt x="18590" y="15528"/>
                  <a:pt x="18604" y="15553"/>
                </a:cubicBezTo>
                <a:cubicBezTo>
                  <a:pt x="18612" y="15561"/>
                  <a:pt x="18620" y="15569"/>
                  <a:pt x="18628" y="15577"/>
                </a:cubicBezTo>
              </a:path>
              <a:path w="2432" h="3573">
                <a:moveTo>
                  <a:pt x="18355" y="15478"/>
                </a:moveTo>
                <a:cubicBezTo>
                  <a:pt x="18430" y="15508"/>
                  <a:pt x="18473" y="15592"/>
                  <a:pt x="18554" y="15627"/>
                </a:cubicBezTo>
                <a:cubicBezTo>
                  <a:pt x="18622" y="15656"/>
                  <a:pt x="18694" y="15599"/>
                  <a:pt x="18728" y="15553"/>
                </a:cubicBezTo>
                <a:cubicBezTo>
                  <a:pt x="18789" y="15450"/>
                  <a:pt x="18797" y="15426"/>
                  <a:pt x="18852" y="15379"/>
                </a:cubicBezTo>
              </a:path>
              <a:path w="2432" h="3573">
                <a:moveTo>
                  <a:pt x="18256" y="16247"/>
                </a:moveTo>
                <a:cubicBezTo>
                  <a:pt x="18234" y="16335"/>
                  <a:pt x="18222" y="16423"/>
                  <a:pt x="18207" y="16520"/>
                </a:cubicBezTo>
                <a:cubicBezTo>
                  <a:pt x="18193" y="16612"/>
                  <a:pt x="18146" y="16740"/>
                  <a:pt x="18231" y="16818"/>
                </a:cubicBezTo>
                <a:cubicBezTo>
                  <a:pt x="18304" y="16885"/>
                  <a:pt x="18400" y="16860"/>
                  <a:pt x="18479" y="16818"/>
                </a:cubicBezTo>
                <a:cubicBezTo>
                  <a:pt x="18521" y="16796"/>
                  <a:pt x="18591" y="16742"/>
                  <a:pt x="18604" y="16694"/>
                </a:cubicBezTo>
                <a:cubicBezTo>
                  <a:pt x="18604" y="16677"/>
                  <a:pt x="18604" y="16661"/>
                  <a:pt x="18604" y="16644"/>
                </a:cubicBezTo>
                <a:cubicBezTo>
                  <a:pt x="18523" y="16614"/>
                  <a:pt x="18443" y="16582"/>
                  <a:pt x="18405" y="16694"/>
                </a:cubicBezTo>
                <a:cubicBezTo>
                  <a:pt x="18391" y="16735"/>
                  <a:pt x="18405" y="16820"/>
                  <a:pt x="18405" y="16867"/>
                </a:cubicBezTo>
              </a:path>
              <a:path w="2432" h="3573">
                <a:moveTo>
                  <a:pt x="17537" y="17314"/>
                </a:moveTo>
                <a:cubicBezTo>
                  <a:pt x="17557" y="17471"/>
                  <a:pt x="17596" y="17627"/>
                  <a:pt x="17611" y="17785"/>
                </a:cubicBezTo>
                <a:cubicBezTo>
                  <a:pt x="17611" y="17864"/>
                  <a:pt x="17615" y="17886"/>
                  <a:pt x="17686" y="17810"/>
                </a:cubicBezTo>
              </a:path>
              <a:path w="2432" h="3573">
                <a:moveTo>
                  <a:pt x="18083" y="17239"/>
                </a:moveTo>
                <a:cubicBezTo>
                  <a:pt x="17988" y="17314"/>
                  <a:pt x="17965" y="17462"/>
                  <a:pt x="17934" y="17587"/>
                </a:cubicBezTo>
                <a:cubicBezTo>
                  <a:pt x="17910" y="17682"/>
                  <a:pt x="17899" y="17711"/>
                  <a:pt x="17959" y="17760"/>
                </a:cubicBezTo>
                <a:cubicBezTo>
                  <a:pt x="18105" y="17783"/>
                  <a:pt x="18288" y="17745"/>
                  <a:pt x="18331" y="17562"/>
                </a:cubicBezTo>
                <a:cubicBezTo>
                  <a:pt x="18364" y="17422"/>
                  <a:pt x="18202" y="17326"/>
                  <a:pt x="18107" y="17289"/>
                </a:cubicBezTo>
                <a:cubicBezTo>
                  <a:pt x="18099" y="17289"/>
                  <a:pt x="18091" y="17289"/>
                  <a:pt x="18083" y="17289"/>
                </a:cubicBezTo>
              </a:path>
              <a:path w="2432" h="3573">
                <a:moveTo>
                  <a:pt x="17239" y="18132"/>
                </a:moveTo>
                <a:cubicBezTo>
                  <a:pt x="17459" y="18206"/>
                  <a:pt x="17725" y="18206"/>
                  <a:pt x="17959" y="18157"/>
                </a:cubicBezTo>
                <a:cubicBezTo>
                  <a:pt x="18227" y="18101"/>
                  <a:pt x="18567" y="17945"/>
                  <a:pt x="18728" y="17711"/>
                </a:cubicBezTo>
                <a:cubicBezTo>
                  <a:pt x="18856" y="17526"/>
                  <a:pt x="18824" y="17257"/>
                  <a:pt x="18678" y="17090"/>
                </a:cubicBezTo>
                <a:cubicBezTo>
                  <a:pt x="18510" y="16898"/>
                  <a:pt x="18298" y="16850"/>
                  <a:pt x="18058" y="16842"/>
                </a:cubicBezTo>
                <a:cubicBezTo>
                  <a:pt x="17822" y="16834"/>
                  <a:pt x="17538" y="16895"/>
                  <a:pt x="17363" y="17066"/>
                </a:cubicBezTo>
                <a:cubicBezTo>
                  <a:pt x="17187" y="17238"/>
                  <a:pt x="17028" y="17535"/>
                  <a:pt x="17041" y="17785"/>
                </a:cubicBezTo>
                <a:cubicBezTo>
                  <a:pt x="17059" y="18134"/>
                  <a:pt x="17245" y="18249"/>
                  <a:pt x="17562" y="18281"/>
                </a:cubicBezTo>
                <a:cubicBezTo>
                  <a:pt x="17716" y="18297"/>
                  <a:pt x="17741" y="18264"/>
                  <a:pt x="17859" y="182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23000" y="4991040"/>
            <a:ext cx="150840" cy="366840"/>
          </a:xfrm>
          <a:custGeom>
            <a:avLst/>
            <a:gdLst/>
            <a:ahLst/>
            <a:rect l="l" t="t" r="r" b="b"/>
            <a:pathLst>
              <a:path w="422" h="1018">
                <a:moveTo>
                  <a:pt x="16247" y="14039"/>
                </a:moveTo>
                <a:cubicBezTo>
                  <a:pt x="16320" y="14063"/>
                  <a:pt x="16179" y="14275"/>
                  <a:pt x="16173" y="14337"/>
                </a:cubicBezTo>
                <a:cubicBezTo>
                  <a:pt x="16181" y="14354"/>
                  <a:pt x="16189" y="14370"/>
                  <a:pt x="16197" y="14387"/>
                </a:cubicBezTo>
                <a:cubicBezTo>
                  <a:pt x="16339" y="14402"/>
                  <a:pt x="16453" y="14383"/>
                  <a:pt x="16594" y="14362"/>
                </a:cubicBezTo>
              </a:path>
              <a:path w="422" h="1018">
                <a:moveTo>
                  <a:pt x="16495" y="13866"/>
                </a:moveTo>
                <a:cubicBezTo>
                  <a:pt x="16553" y="14076"/>
                  <a:pt x="16558" y="14378"/>
                  <a:pt x="16570" y="14610"/>
                </a:cubicBezTo>
                <a:cubicBezTo>
                  <a:pt x="16575" y="14709"/>
                  <a:pt x="16570" y="14957"/>
                  <a:pt x="16570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80120" y="5197320"/>
            <a:ext cx="142920" cy="36720"/>
          </a:xfrm>
          <a:custGeom>
            <a:avLst/>
            <a:gdLst/>
            <a:ahLst/>
            <a:rect l="l" t="t" r="r" b="b"/>
            <a:pathLst>
              <a:path w="398" h="101">
                <a:moveTo>
                  <a:pt x="17190" y="14536"/>
                </a:moveTo>
                <a:cubicBezTo>
                  <a:pt x="17182" y="14528"/>
                  <a:pt x="17173" y="14519"/>
                  <a:pt x="17165" y="14511"/>
                </a:cubicBezTo>
                <a:cubicBezTo>
                  <a:pt x="17256" y="14511"/>
                  <a:pt x="17350" y="14481"/>
                  <a:pt x="17438" y="14461"/>
                </a:cubicBezTo>
                <a:cubicBezTo>
                  <a:pt x="17512" y="14442"/>
                  <a:pt x="17519" y="14434"/>
                  <a:pt x="17562" y="144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83240" y="4946760"/>
            <a:ext cx="482760" cy="331560"/>
          </a:xfrm>
          <a:custGeom>
            <a:avLst/>
            <a:gdLst/>
            <a:ahLst/>
            <a:rect l="l" t="t" r="r" b="b"/>
            <a:pathLst>
              <a:path w="1341" h="919">
                <a:moveTo>
                  <a:pt x="18008" y="14089"/>
                </a:moveTo>
                <a:cubicBezTo>
                  <a:pt x="18132" y="14089"/>
                  <a:pt x="18256" y="14089"/>
                  <a:pt x="18380" y="14089"/>
                </a:cubicBezTo>
              </a:path>
              <a:path w="1341" h="919">
                <a:moveTo>
                  <a:pt x="18827" y="13742"/>
                </a:moveTo>
                <a:cubicBezTo>
                  <a:pt x="18827" y="13870"/>
                  <a:pt x="18827" y="13987"/>
                  <a:pt x="18802" y="14114"/>
                </a:cubicBezTo>
                <a:cubicBezTo>
                  <a:pt x="18774" y="14256"/>
                  <a:pt x="18645" y="14520"/>
                  <a:pt x="18802" y="14635"/>
                </a:cubicBezTo>
                <a:cubicBezTo>
                  <a:pt x="18929" y="14728"/>
                  <a:pt x="19200" y="14634"/>
                  <a:pt x="19298" y="14536"/>
                </a:cubicBezTo>
                <a:cubicBezTo>
                  <a:pt x="19383" y="14451"/>
                  <a:pt x="19370" y="14322"/>
                  <a:pt x="19298" y="14263"/>
                </a:cubicBezTo>
                <a:cubicBezTo>
                  <a:pt x="19131" y="14288"/>
                  <a:pt x="19059" y="14348"/>
                  <a:pt x="19075" y="14536"/>
                </a:cubicBezTo>
                <a:cubicBezTo>
                  <a:pt x="19094" y="14613"/>
                  <a:pt x="19087" y="14630"/>
                  <a:pt x="19124" y="146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8920" y="5419800"/>
            <a:ext cx="27000" cy="216000"/>
          </a:xfrm>
          <a:custGeom>
            <a:avLst/>
            <a:gdLst/>
            <a:ahLst/>
            <a:rect l="l" t="t" r="r" b="b"/>
            <a:pathLst>
              <a:path w="76" h="597">
                <a:moveTo>
                  <a:pt x="16495" y="15056"/>
                </a:moveTo>
                <a:cubicBezTo>
                  <a:pt x="16517" y="15229"/>
                  <a:pt x="16509" y="15405"/>
                  <a:pt x="16545" y="15577"/>
                </a:cubicBezTo>
                <a:cubicBezTo>
                  <a:pt x="16565" y="15618"/>
                  <a:pt x="16574" y="15624"/>
                  <a:pt x="16570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08080" y="5295960"/>
            <a:ext cx="17280" cy="177840"/>
          </a:xfrm>
          <a:custGeom>
            <a:avLst/>
            <a:gdLst/>
            <a:ahLst/>
            <a:rect l="l" t="t" r="r" b="b"/>
            <a:pathLst>
              <a:path w="50" h="497">
                <a:moveTo>
                  <a:pt x="3076" y="14709"/>
                </a:moveTo>
                <a:cubicBezTo>
                  <a:pt x="3076" y="14851"/>
                  <a:pt x="3112" y="14990"/>
                  <a:pt x="3125" y="15131"/>
                </a:cubicBezTo>
                <a:cubicBezTo>
                  <a:pt x="3125" y="15189"/>
                  <a:pt x="3125" y="15230"/>
                  <a:pt x="3125" y="151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81080" y="5384880"/>
            <a:ext cx="177840" cy="88920"/>
          </a:xfrm>
          <a:custGeom>
            <a:avLst/>
            <a:gdLst/>
            <a:ahLst/>
            <a:rect l="l" t="t" r="r" b="b"/>
            <a:pathLst>
              <a:path w="497" h="249">
                <a:moveTo>
                  <a:pt x="3001" y="15032"/>
                </a:moveTo>
                <a:cubicBezTo>
                  <a:pt x="3057" y="15104"/>
                  <a:pt x="3162" y="15238"/>
                  <a:pt x="3274" y="15205"/>
                </a:cubicBezTo>
                <a:cubicBezTo>
                  <a:pt x="3359" y="15180"/>
                  <a:pt x="3451" y="14947"/>
                  <a:pt x="3497" y="14957"/>
                </a:cubicBezTo>
                <a:cubicBezTo>
                  <a:pt x="3497" y="14965"/>
                  <a:pt x="3497" y="14974"/>
                  <a:pt x="3497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5749920"/>
            <a:ext cx="117720" cy="36360"/>
          </a:xfrm>
          <a:custGeom>
            <a:avLst/>
            <a:gdLst/>
            <a:ahLst/>
            <a:rect l="l" t="t" r="r" b="b"/>
            <a:pathLst>
              <a:path w="323" h="100">
                <a:moveTo>
                  <a:pt x="2555" y="16073"/>
                </a:moveTo>
                <a:cubicBezTo>
                  <a:pt x="2617" y="16044"/>
                  <a:pt x="2856" y="15935"/>
                  <a:pt x="2877" y="15999"/>
                </a:cubicBezTo>
                <a:cubicBezTo>
                  <a:pt x="2877" y="16016"/>
                  <a:pt x="2877" y="16032"/>
                  <a:pt x="2877" y="16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89000" y="5705640"/>
            <a:ext cx="125280" cy="72720"/>
          </a:xfrm>
          <a:custGeom>
            <a:avLst/>
            <a:gdLst/>
            <a:ahLst/>
            <a:rect l="l" t="t" r="r" b="b"/>
            <a:pathLst>
              <a:path w="348" h="200">
                <a:moveTo>
                  <a:pt x="3026" y="15850"/>
                </a:moveTo>
                <a:cubicBezTo>
                  <a:pt x="3047" y="15919"/>
                  <a:pt x="3051" y="15975"/>
                  <a:pt x="3051" y="16049"/>
                </a:cubicBezTo>
                <a:cubicBezTo>
                  <a:pt x="3161" y="16049"/>
                  <a:pt x="3264" y="16032"/>
                  <a:pt x="3373" y="160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14280" y="5680080"/>
            <a:ext cx="27000" cy="160200"/>
          </a:xfrm>
          <a:custGeom>
            <a:avLst/>
            <a:gdLst/>
            <a:ahLst/>
            <a:rect l="l" t="t" r="r" b="b"/>
            <a:pathLst>
              <a:path w="76" h="447">
                <a:moveTo>
                  <a:pt x="3398" y="15776"/>
                </a:moveTo>
                <a:cubicBezTo>
                  <a:pt x="3359" y="15929"/>
                  <a:pt x="3400" y="16022"/>
                  <a:pt x="3423" y="16173"/>
                </a:cubicBezTo>
                <a:cubicBezTo>
                  <a:pt x="3423" y="16214"/>
                  <a:pt x="3415" y="16230"/>
                  <a:pt x="3448" y="162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55840" y="5241960"/>
            <a:ext cx="9360" cy="169920"/>
          </a:xfrm>
          <a:custGeom>
            <a:avLst/>
            <a:gdLst/>
            <a:ahLst/>
            <a:rect l="l" t="t" r="r" b="b"/>
            <a:pathLst>
              <a:path w="26" h="473">
                <a:moveTo>
                  <a:pt x="4043" y="14560"/>
                </a:moveTo>
                <a:cubicBezTo>
                  <a:pt x="4043" y="14688"/>
                  <a:pt x="4056" y="14806"/>
                  <a:pt x="4068" y="14932"/>
                </a:cubicBezTo>
                <a:cubicBezTo>
                  <a:pt x="4071" y="14964"/>
                  <a:pt x="4068" y="15000"/>
                  <a:pt x="4068" y="150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28840" y="5367240"/>
            <a:ext cx="115920" cy="71640"/>
          </a:xfrm>
          <a:custGeom>
            <a:avLst/>
            <a:gdLst/>
            <a:ahLst/>
            <a:rect l="l" t="t" r="r" b="b"/>
            <a:pathLst>
              <a:path w="323" h="199">
                <a:moveTo>
                  <a:pt x="3969" y="14908"/>
                </a:moveTo>
                <a:cubicBezTo>
                  <a:pt x="3984" y="14959"/>
                  <a:pt x="4035" y="15123"/>
                  <a:pt x="4118" y="15106"/>
                </a:cubicBezTo>
                <a:cubicBezTo>
                  <a:pt x="4183" y="15093"/>
                  <a:pt x="4250" y="14977"/>
                  <a:pt x="4291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55840" y="5715000"/>
            <a:ext cx="9360" cy="71280"/>
          </a:xfrm>
          <a:custGeom>
            <a:avLst/>
            <a:gdLst/>
            <a:ahLst/>
            <a:rect l="l" t="t" r="r" b="b"/>
            <a:pathLst>
              <a:path w="26" h="199">
                <a:moveTo>
                  <a:pt x="4043" y="15900"/>
                </a:moveTo>
                <a:cubicBezTo>
                  <a:pt x="4043" y="15833"/>
                  <a:pt x="4058" y="15983"/>
                  <a:pt x="4068" y="16049"/>
                </a:cubicBezTo>
                <a:cubicBezTo>
                  <a:pt x="4068" y="16081"/>
                  <a:pt x="4068" y="16081"/>
                  <a:pt x="4068" y="160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11200" y="5749920"/>
            <a:ext cx="108000" cy="28440"/>
          </a:xfrm>
          <a:custGeom>
            <a:avLst/>
            <a:gdLst/>
            <a:ahLst/>
            <a:rect l="l" t="t" r="r" b="b"/>
            <a:pathLst>
              <a:path w="299" h="76">
                <a:moveTo>
                  <a:pt x="3919" y="15974"/>
                </a:moveTo>
                <a:cubicBezTo>
                  <a:pt x="4004" y="16003"/>
                  <a:pt x="4069" y="16042"/>
                  <a:pt x="4167" y="16049"/>
                </a:cubicBezTo>
                <a:cubicBezTo>
                  <a:pt x="4194" y="16051"/>
                  <a:pt x="4214" y="16022"/>
                  <a:pt x="4217" y="15999"/>
                </a:cubicBezTo>
                <a:cubicBezTo>
                  <a:pt x="4217" y="15991"/>
                  <a:pt x="4217" y="15982"/>
                  <a:pt x="4217" y="159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57240" y="5224320"/>
            <a:ext cx="9720" cy="177840"/>
          </a:xfrm>
          <a:custGeom>
            <a:avLst/>
            <a:gdLst/>
            <a:ahLst/>
            <a:rect l="l" t="t" r="r" b="b"/>
            <a:pathLst>
              <a:path w="26" h="497">
                <a:moveTo>
                  <a:pt x="5159" y="14536"/>
                </a:moveTo>
                <a:cubicBezTo>
                  <a:pt x="5159" y="14453"/>
                  <a:pt x="5159" y="14651"/>
                  <a:pt x="5159" y="14734"/>
                </a:cubicBezTo>
                <a:cubicBezTo>
                  <a:pt x="5159" y="14817"/>
                  <a:pt x="5147" y="14958"/>
                  <a:pt x="5184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95320" y="5367240"/>
            <a:ext cx="160560" cy="71640"/>
          </a:xfrm>
          <a:custGeom>
            <a:avLst/>
            <a:gdLst/>
            <a:ahLst/>
            <a:rect l="l" t="t" r="r" b="b"/>
            <a:pathLst>
              <a:path w="447" h="199">
                <a:moveTo>
                  <a:pt x="4986" y="14908"/>
                </a:moveTo>
                <a:cubicBezTo>
                  <a:pt x="5079" y="14945"/>
                  <a:pt x="5133" y="15046"/>
                  <a:pt x="5209" y="15106"/>
                </a:cubicBezTo>
                <a:cubicBezTo>
                  <a:pt x="5217" y="15106"/>
                  <a:pt x="5226" y="15106"/>
                  <a:pt x="5234" y="15106"/>
                </a:cubicBezTo>
                <a:cubicBezTo>
                  <a:pt x="5297" y="15061"/>
                  <a:pt x="5365" y="14948"/>
                  <a:pt x="5432" y="149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97040" y="5724360"/>
            <a:ext cx="71280" cy="9720"/>
          </a:xfrm>
          <a:custGeom>
            <a:avLst/>
            <a:gdLst/>
            <a:ahLst/>
            <a:rect l="l" t="t" r="r" b="b"/>
            <a:pathLst>
              <a:path w="199" h="26">
                <a:moveTo>
                  <a:pt x="4713" y="15925"/>
                </a:moveTo>
                <a:cubicBezTo>
                  <a:pt x="4732" y="15869"/>
                  <a:pt x="4848" y="15900"/>
                  <a:pt x="4911" y="159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20880" y="5705640"/>
            <a:ext cx="171360" cy="134640"/>
          </a:xfrm>
          <a:custGeom>
            <a:avLst/>
            <a:gdLst/>
            <a:ahLst/>
            <a:rect l="l" t="t" r="r" b="b"/>
            <a:pathLst>
              <a:path w="472" h="373">
                <a:moveTo>
                  <a:pt x="5060" y="15850"/>
                </a:moveTo>
                <a:cubicBezTo>
                  <a:pt x="5086" y="15927"/>
                  <a:pt x="5085" y="15991"/>
                  <a:pt x="5085" y="16073"/>
                </a:cubicBezTo>
                <a:cubicBezTo>
                  <a:pt x="5085" y="16169"/>
                  <a:pt x="5142" y="16203"/>
                  <a:pt x="5234" y="16222"/>
                </a:cubicBezTo>
                <a:cubicBezTo>
                  <a:pt x="5291" y="16234"/>
                  <a:pt x="5451" y="16179"/>
                  <a:pt x="5482" y="16148"/>
                </a:cubicBezTo>
                <a:cubicBezTo>
                  <a:pt x="5507" y="16098"/>
                  <a:pt x="5515" y="16082"/>
                  <a:pt x="5531" y="16049"/>
                </a:cubicBezTo>
                <a:cubicBezTo>
                  <a:pt x="5483" y="16049"/>
                  <a:pt x="5364" y="16043"/>
                  <a:pt x="5333" y="16098"/>
                </a:cubicBezTo>
                <a:cubicBezTo>
                  <a:pt x="5322" y="16118"/>
                  <a:pt x="5333" y="16195"/>
                  <a:pt x="5333" y="162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46120" y="6054840"/>
            <a:ext cx="9720" cy="204840"/>
          </a:xfrm>
          <a:custGeom>
            <a:avLst/>
            <a:gdLst/>
            <a:ahLst/>
            <a:rect l="l" t="t" r="r" b="b"/>
            <a:pathLst>
              <a:path w="26" h="571">
                <a:moveTo>
                  <a:pt x="4043" y="16818"/>
                </a:moveTo>
                <a:cubicBezTo>
                  <a:pt x="3974" y="16840"/>
                  <a:pt x="4018" y="17167"/>
                  <a:pt x="4018" y="17239"/>
                </a:cubicBezTo>
                <a:cubicBezTo>
                  <a:pt x="4018" y="17330"/>
                  <a:pt x="4018" y="17338"/>
                  <a:pt x="4018" y="173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81120" y="6072120"/>
            <a:ext cx="133560" cy="18756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4440" y="16867"/>
                </a:moveTo>
                <a:cubicBezTo>
                  <a:pt x="4465" y="16880"/>
                  <a:pt x="4399" y="17003"/>
                  <a:pt x="4390" y="17066"/>
                </a:cubicBezTo>
                <a:cubicBezTo>
                  <a:pt x="4381" y="17130"/>
                  <a:pt x="4362" y="17286"/>
                  <a:pt x="4415" y="17338"/>
                </a:cubicBezTo>
                <a:cubicBezTo>
                  <a:pt x="4496" y="17418"/>
                  <a:pt x="4587" y="17373"/>
                  <a:pt x="4663" y="17314"/>
                </a:cubicBezTo>
                <a:cubicBezTo>
                  <a:pt x="4714" y="17274"/>
                  <a:pt x="4777" y="17184"/>
                  <a:pt x="4762" y="17115"/>
                </a:cubicBezTo>
                <a:cubicBezTo>
                  <a:pt x="4743" y="17027"/>
                  <a:pt x="4662" y="16958"/>
                  <a:pt x="4589" y="16917"/>
                </a:cubicBezTo>
                <a:cubicBezTo>
                  <a:pt x="4548" y="16894"/>
                  <a:pt x="4507" y="16846"/>
                  <a:pt x="4465" y="16867"/>
                </a:cubicBezTo>
                <a:cubicBezTo>
                  <a:pt x="4465" y="16875"/>
                  <a:pt x="4465" y="16884"/>
                  <a:pt x="4465" y="168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14280" y="6099120"/>
            <a:ext cx="125640" cy="17640"/>
          </a:xfrm>
          <a:custGeom>
            <a:avLst/>
            <a:gdLst/>
            <a:ahLst/>
            <a:rect l="l" t="t" r="r" b="b"/>
            <a:pathLst>
              <a:path w="349" h="50">
                <a:moveTo>
                  <a:pt x="3373" y="16991"/>
                </a:moveTo>
                <a:cubicBezTo>
                  <a:pt x="3476" y="16978"/>
                  <a:pt x="3583" y="16953"/>
                  <a:pt x="3671" y="16966"/>
                </a:cubicBezTo>
                <a:cubicBezTo>
                  <a:pt x="3706" y="16971"/>
                  <a:pt x="3689" y="16952"/>
                  <a:pt x="3721" y="169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dawn this morning, the temperature was -3 degrees F. By noon, the temperature was 25 degrees F. What was the change in temperatur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84720" y="4010040"/>
            <a:ext cx="1179360" cy="312840"/>
          </a:xfrm>
          <a:custGeom>
            <a:avLst/>
            <a:gdLst/>
            <a:ahLst/>
            <a:rect l="l" t="t" r="r" b="b"/>
            <a:pathLst>
              <a:path w="3275" h="869">
                <a:moveTo>
                  <a:pt x="9575" y="11286"/>
                </a:moveTo>
                <a:cubicBezTo>
                  <a:pt x="9549" y="11234"/>
                  <a:pt x="9555" y="11304"/>
                  <a:pt x="9550" y="11336"/>
                </a:cubicBezTo>
                <a:cubicBezTo>
                  <a:pt x="9518" y="11255"/>
                  <a:pt x="9608" y="11125"/>
                  <a:pt x="9723" y="11137"/>
                </a:cubicBezTo>
                <a:cubicBezTo>
                  <a:pt x="9955" y="11161"/>
                  <a:pt x="9669" y="11726"/>
                  <a:pt x="9624" y="11807"/>
                </a:cubicBezTo>
                <a:cubicBezTo>
                  <a:pt x="9537" y="11915"/>
                  <a:pt x="9524" y="11957"/>
                  <a:pt x="9426" y="11931"/>
                </a:cubicBezTo>
                <a:cubicBezTo>
                  <a:pt x="9379" y="11791"/>
                  <a:pt x="9454" y="11740"/>
                  <a:pt x="9624" y="11757"/>
                </a:cubicBezTo>
                <a:cubicBezTo>
                  <a:pt x="9798" y="11774"/>
                  <a:pt x="9917" y="11844"/>
                  <a:pt x="9971" y="12005"/>
                </a:cubicBezTo>
              </a:path>
              <a:path w="3275" h="869">
                <a:moveTo>
                  <a:pt x="10542" y="11286"/>
                </a:moveTo>
                <a:cubicBezTo>
                  <a:pt x="10481" y="11272"/>
                  <a:pt x="10369" y="11247"/>
                  <a:pt x="10344" y="11311"/>
                </a:cubicBezTo>
                <a:cubicBezTo>
                  <a:pt x="10291" y="11442"/>
                  <a:pt x="10272" y="11491"/>
                  <a:pt x="10244" y="11584"/>
                </a:cubicBezTo>
                <a:cubicBezTo>
                  <a:pt x="10404" y="11572"/>
                  <a:pt x="10712" y="11476"/>
                  <a:pt x="10567" y="11807"/>
                </a:cubicBezTo>
                <a:cubicBezTo>
                  <a:pt x="10426" y="11919"/>
                  <a:pt x="10363" y="11952"/>
                  <a:pt x="10220" y="11906"/>
                </a:cubicBezTo>
              </a:path>
              <a:path w="3275" h="869">
                <a:moveTo>
                  <a:pt x="11187" y="11385"/>
                </a:moveTo>
                <a:cubicBezTo>
                  <a:pt x="11187" y="11542"/>
                  <a:pt x="11187" y="11700"/>
                  <a:pt x="11187" y="11857"/>
                </a:cubicBezTo>
              </a:path>
              <a:path w="3275" h="869">
                <a:moveTo>
                  <a:pt x="10988" y="11609"/>
                </a:moveTo>
                <a:cubicBezTo>
                  <a:pt x="11127" y="11609"/>
                  <a:pt x="11251" y="11597"/>
                  <a:pt x="11385" y="11609"/>
                </a:cubicBezTo>
                <a:cubicBezTo>
                  <a:pt x="11420" y="11609"/>
                  <a:pt x="11438" y="11604"/>
                  <a:pt x="11460" y="11584"/>
                </a:cubicBezTo>
              </a:path>
              <a:path w="3275" h="869">
                <a:moveTo>
                  <a:pt x="11881" y="11534"/>
                </a:moveTo>
                <a:cubicBezTo>
                  <a:pt x="11964" y="11517"/>
                  <a:pt x="12039" y="11509"/>
                  <a:pt x="12129" y="11509"/>
                </a:cubicBezTo>
                <a:cubicBezTo>
                  <a:pt x="12137" y="11509"/>
                  <a:pt x="12146" y="11509"/>
                  <a:pt x="12154" y="11509"/>
                </a:cubicBezTo>
              </a:path>
              <a:path w="3275" h="869">
                <a:moveTo>
                  <a:pt x="12328" y="11212"/>
                </a:moveTo>
                <a:cubicBezTo>
                  <a:pt x="12426" y="11163"/>
                  <a:pt x="12614" y="11125"/>
                  <a:pt x="12601" y="11311"/>
                </a:cubicBezTo>
                <a:cubicBezTo>
                  <a:pt x="12553" y="11455"/>
                  <a:pt x="12540" y="11500"/>
                  <a:pt x="12452" y="11559"/>
                </a:cubicBezTo>
                <a:cubicBezTo>
                  <a:pt x="12435" y="11567"/>
                  <a:pt x="12419" y="11576"/>
                  <a:pt x="12402" y="11584"/>
                </a:cubicBezTo>
                <a:cubicBezTo>
                  <a:pt x="12469" y="11508"/>
                  <a:pt x="12648" y="11383"/>
                  <a:pt x="12675" y="11584"/>
                </a:cubicBezTo>
                <a:cubicBezTo>
                  <a:pt x="12701" y="11778"/>
                  <a:pt x="12471" y="11925"/>
                  <a:pt x="12303" y="11906"/>
                </a:cubicBezTo>
                <a:cubicBezTo>
                  <a:pt x="12303" y="11898"/>
                  <a:pt x="12303" y="11889"/>
                  <a:pt x="12303" y="118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37000" y="4518000"/>
            <a:ext cx="919080" cy="304920"/>
          </a:xfrm>
          <a:custGeom>
            <a:avLst/>
            <a:gdLst/>
            <a:ahLst/>
            <a:rect l="l" t="t" r="r" b="b"/>
            <a:pathLst>
              <a:path w="2556" h="845">
                <a:moveTo>
                  <a:pt x="10096" y="12700"/>
                </a:moveTo>
                <a:cubicBezTo>
                  <a:pt x="10006" y="12670"/>
                  <a:pt x="10200" y="12636"/>
                  <a:pt x="10294" y="12626"/>
                </a:cubicBezTo>
                <a:cubicBezTo>
                  <a:pt x="10477" y="12931"/>
                  <a:pt x="10315" y="13131"/>
                  <a:pt x="9996" y="13320"/>
                </a:cubicBezTo>
                <a:cubicBezTo>
                  <a:pt x="9849" y="13362"/>
                  <a:pt x="9791" y="13406"/>
                  <a:pt x="9823" y="13271"/>
                </a:cubicBezTo>
                <a:cubicBezTo>
                  <a:pt x="9986" y="13086"/>
                  <a:pt x="10113" y="12980"/>
                  <a:pt x="10294" y="13221"/>
                </a:cubicBezTo>
                <a:cubicBezTo>
                  <a:pt x="10335" y="13276"/>
                  <a:pt x="10342" y="13372"/>
                  <a:pt x="10368" y="13345"/>
                </a:cubicBezTo>
              </a:path>
              <a:path w="2556" h="845">
                <a:moveTo>
                  <a:pt x="10939" y="12551"/>
                </a:moveTo>
                <a:cubicBezTo>
                  <a:pt x="10855" y="12599"/>
                  <a:pt x="10772" y="12615"/>
                  <a:pt x="10691" y="12601"/>
                </a:cubicBezTo>
                <a:cubicBezTo>
                  <a:pt x="10575" y="12582"/>
                  <a:pt x="10559" y="12773"/>
                  <a:pt x="10542" y="12849"/>
                </a:cubicBezTo>
                <a:cubicBezTo>
                  <a:pt x="10542" y="12857"/>
                  <a:pt x="10542" y="12866"/>
                  <a:pt x="10542" y="12874"/>
                </a:cubicBezTo>
                <a:cubicBezTo>
                  <a:pt x="10634" y="12874"/>
                  <a:pt x="10780" y="12802"/>
                  <a:pt x="10864" y="12849"/>
                </a:cubicBezTo>
                <a:cubicBezTo>
                  <a:pt x="11169" y="13019"/>
                  <a:pt x="10813" y="13328"/>
                  <a:pt x="10641" y="13395"/>
                </a:cubicBezTo>
                <a:cubicBezTo>
                  <a:pt x="10532" y="13395"/>
                  <a:pt x="10495" y="13409"/>
                  <a:pt x="10492" y="13320"/>
                </a:cubicBezTo>
              </a:path>
              <a:path w="2556" h="845">
                <a:moveTo>
                  <a:pt x="11460" y="12799"/>
                </a:moveTo>
                <a:cubicBezTo>
                  <a:pt x="11460" y="12698"/>
                  <a:pt x="11483" y="12946"/>
                  <a:pt x="11485" y="13047"/>
                </a:cubicBezTo>
                <a:cubicBezTo>
                  <a:pt x="11487" y="13144"/>
                  <a:pt x="11515" y="13207"/>
                  <a:pt x="11460" y="13171"/>
                </a:cubicBezTo>
              </a:path>
              <a:path w="2556" h="845">
                <a:moveTo>
                  <a:pt x="11212" y="12973"/>
                </a:moveTo>
                <a:cubicBezTo>
                  <a:pt x="11372" y="12973"/>
                  <a:pt x="11525" y="12957"/>
                  <a:pt x="11683" y="12948"/>
                </a:cubicBezTo>
              </a:path>
              <a:path w="2556" h="845">
                <a:moveTo>
                  <a:pt x="11931" y="12626"/>
                </a:moveTo>
                <a:cubicBezTo>
                  <a:pt x="12010" y="12578"/>
                  <a:pt x="12188" y="12542"/>
                  <a:pt x="12278" y="12601"/>
                </a:cubicBezTo>
                <a:cubicBezTo>
                  <a:pt x="12436" y="12704"/>
                  <a:pt x="12107" y="12856"/>
                  <a:pt x="12080" y="12874"/>
                </a:cubicBezTo>
                <a:cubicBezTo>
                  <a:pt x="12063" y="12882"/>
                  <a:pt x="12047" y="12890"/>
                  <a:pt x="12030" y="12898"/>
                </a:cubicBezTo>
                <a:cubicBezTo>
                  <a:pt x="12151" y="12855"/>
                  <a:pt x="12412" y="12790"/>
                  <a:pt x="12378" y="13022"/>
                </a:cubicBezTo>
                <a:cubicBezTo>
                  <a:pt x="12351" y="13210"/>
                  <a:pt x="12142" y="13196"/>
                  <a:pt x="12005" y="131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41840" y="5562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0393" y="15453"/>
                </a:moveTo>
                <a:lnTo>
                  <a:pt x="10393" y="1545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0040" y="4303800"/>
            <a:ext cx="2536920" cy="1117440"/>
          </a:xfrm>
          <a:custGeom>
            <a:avLst/>
            <a:gdLst/>
            <a:ahLst/>
            <a:rect l="l" t="t" r="r" b="b"/>
            <a:pathLst>
              <a:path w="7046" h="3101">
                <a:moveTo>
                  <a:pt x="2902" y="12849"/>
                </a:moveTo>
                <a:cubicBezTo>
                  <a:pt x="2811" y="12909"/>
                  <a:pt x="3013" y="12744"/>
                  <a:pt x="3051" y="12750"/>
                </a:cubicBezTo>
                <a:cubicBezTo>
                  <a:pt x="3488" y="12818"/>
                  <a:pt x="3169" y="13366"/>
                  <a:pt x="3001" y="13519"/>
                </a:cubicBezTo>
                <a:cubicBezTo>
                  <a:pt x="2839" y="13600"/>
                  <a:pt x="2814" y="13633"/>
                  <a:pt x="2704" y="13618"/>
                </a:cubicBezTo>
                <a:cubicBezTo>
                  <a:pt x="2737" y="13364"/>
                  <a:pt x="2811" y="13201"/>
                  <a:pt x="3101" y="13345"/>
                </a:cubicBezTo>
                <a:cubicBezTo>
                  <a:pt x="3207" y="13430"/>
                  <a:pt x="3236" y="13443"/>
                  <a:pt x="3274" y="13519"/>
                </a:cubicBezTo>
              </a:path>
              <a:path w="7046" h="3101">
                <a:moveTo>
                  <a:pt x="3969" y="12725"/>
                </a:moveTo>
                <a:cubicBezTo>
                  <a:pt x="3877" y="12725"/>
                  <a:pt x="3730" y="12715"/>
                  <a:pt x="3646" y="12750"/>
                </a:cubicBezTo>
                <a:cubicBezTo>
                  <a:pt x="3584" y="12776"/>
                  <a:pt x="3627" y="12881"/>
                  <a:pt x="3621" y="12948"/>
                </a:cubicBezTo>
                <a:cubicBezTo>
                  <a:pt x="3621" y="13022"/>
                  <a:pt x="3621" y="13031"/>
                  <a:pt x="3621" y="13072"/>
                </a:cubicBezTo>
                <a:cubicBezTo>
                  <a:pt x="3731" y="13072"/>
                  <a:pt x="3777" y="12959"/>
                  <a:pt x="3894" y="12948"/>
                </a:cubicBezTo>
                <a:cubicBezTo>
                  <a:pt x="4157" y="12924"/>
                  <a:pt x="4112" y="13240"/>
                  <a:pt x="3994" y="13370"/>
                </a:cubicBezTo>
                <a:cubicBezTo>
                  <a:pt x="3873" y="13503"/>
                  <a:pt x="3771" y="13476"/>
                  <a:pt x="3646" y="13395"/>
                </a:cubicBezTo>
              </a:path>
              <a:path w="7046" h="3101">
                <a:moveTo>
                  <a:pt x="4713" y="13146"/>
                </a:moveTo>
                <a:cubicBezTo>
                  <a:pt x="4856" y="13146"/>
                  <a:pt x="4993" y="13131"/>
                  <a:pt x="5135" y="13122"/>
                </a:cubicBezTo>
              </a:path>
              <a:path w="7046" h="3101">
                <a:moveTo>
                  <a:pt x="5631" y="12700"/>
                </a:moveTo>
                <a:cubicBezTo>
                  <a:pt x="5738" y="12693"/>
                  <a:pt x="5824" y="12676"/>
                  <a:pt x="5928" y="12650"/>
                </a:cubicBezTo>
              </a:path>
              <a:path w="7046" h="3101">
                <a:moveTo>
                  <a:pt x="6276" y="12551"/>
                </a:moveTo>
                <a:cubicBezTo>
                  <a:pt x="6376" y="12530"/>
                  <a:pt x="6545" y="12452"/>
                  <a:pt x="6648" y="12502"/>
                </a:cubicBezTo>
                <a:cubicBezTo>
                  <a:pt x="6673" y="12535"/>
                  <a:pt x="6697" y="12568"/>
                  <a:pt x="6722" y="12601"/>
                </a:cubicBezTo>
                <a:cubicBezTo>
                  <a:pt x="6640" y="12759"/>
                  <a:pt x="6599" y="12814"/>
                  <a:pt x="6449" y="12923"/>
                </a:cubicBezTo>
                <a:cubicBezTo>
                  <a:pt x="6553" y="12902"/>
                  <a:pt x="6671" y="12822"/>
                  <a:pt x="6772" y="12923"/>
                </a:cubicBezTo>
                <a:cubicBezTo>
                  <a:pt x="6972" y="13123"/>
                  <a:pt x="6435" y="13277"/>
                  <a:pt x="6350" y="13295"/>
                </a:cubicBezTo>
                <a:cubicBezTo>
                  <a:pt x="6325" y="13295"/>
                  <a:pt x="6301" y="13295"/>
                  <a:pt x="6276" y="13295"/>
                </a:cubicBezTo>
              </a:path>
              <a:path w="7046" h="3101">
                <a:moveTo>
                  <a:pt x="2282" y="12229"/>
                </a:moveTo>
                <a:cubicBezTo>
                  <a:pt x="2222" y="12206"/>
                  <a:pt x="2270" y="12086"/>
                  <a:pt x="2208" y="12105"/>
                </a:cubicBezTo>
                <a:cubicBezTo>
                  <a:pt x="1954" y="12183"/>
                  <a:pt x="1659" y="12449"/>
                  <a:pt x="1588" y="12725"/>
                </a:cubicBezTo>
                <a:cubicBezTo>
                  <a:pt x="1516" y="13006"/>
                  <a:pt x="1828" y="12938"/>
                  <a:pt x="1984" y="12948"/>
                </a:cubicBezTo>
                <a:cubicBezTo>
                  <a:pt x="1775" y="13174"/>
                  <a:pt x="1597" y="13341"/>
                  <a:pt x="1538" y="13667"/>
                </a:cubicBezTo>
                <a:cubicBezTo>
                  <a:pt x="1437" y="14225"/>
                  <a:pt x="1713" y="14483"/>
                  <a:pt x="2232" y="14436"/>
                </a:cubicBezTo>
                <a:cubicBezTo>
                  <a:pt x="2382" y="14399"/>
                  <a:pt x="2404" y="14405"/>
                  <a:pt x="2480" y="14362"/>
                </a:cubicBezTo>
                <a:cubicBezTo>
                  <a:pt x="2447" y="14535"/>
                  <a:pt x="2317" y="14830"/>
                  <a:pt x="2480" y="14982"/>
                </a:cubicBezTo>
                <a:cubicBezTo>
                  <a:pt x="2774" y="15257"/>
                  <a:pt x="3485" y="14835"/>
                  <a:pt x="3770" y="14709"/>
                </a:cubicBezTo>
                <a:cubicBezTo>
                  <a:pt x="3803" y="14693"/>
                  <a:pt x="3837" y="14676"/>
                  <a:pt x="3870" y="14660"/>
                </a:cubicBezTo>
                <a:cubicBezTo>
                  <a:pt x="4004" y="14878"/>
                  <a:pt x="4037" y="15007"/>
                  <a:pt x="4341" y="15032"/>
                </a:cubicBezTo>
                <a:cubicBezTo>
                  <a:pt x="4723" y="15063"/>
                  <a:pt x="5499" y="14516"/>
                  <a:pt x="5730" y="14660"/>
                </a:cubicBezTo>
                <a:cubicBezTo>
                  <a:pt x="6018" y="14839"/>
                  <a:pt x="6002" y="15027"/>
                  <a:pt x="6548" y="14908"/>
                </a:cubicBezTo>
                <a:cubicBezTo>
                  <a:pt x="6719" y="14871"/>
                  <a:pt x="7249" y="14536"/>
                  <a:pt x="7342" y="14536"/>
                </a:cubicBezTo>
                <a:cubicBezTo>
                  <a:pt x="7652" y="14536"/>
                  <a:pt x="7809" y="14621"/>
                  <a:pt x="8136" y="14312"/>
                </a:cubicBezTo>
                <a:cubicBezTo>
                  <a:pt x="8489" y="13977"/>
                  <a:pt x="8498" y="13639"/>
                  <a:pt x="8210" y="13295"/>
                </a:cubicBezTo>
                <a:cubicBezTo>
                  <a:pt x="8177" y="13262"/>
                  <a:pt x="8144" y="13229"/>
                  <a:pt x="8111" y="13196"/>
                </a:cubicBezTo>
                <a:cubicBezTo>
                  <a:pt x="8179" y="13104"/>
                  <a:pt x="8283" y="13109"/>
                  <a:pt x="8310" y="12998"/>
                </a:cubicBezTo>
                <a:cubicBezTo>
                  <a:pt x="8413" y="12580"/>
                  <a:pt x="7854" y="12313"/>
                  <a:pt x="7541" y="12278"/>
                </a:cubicBezTo>
                <a:cubicBezTo>
                  <a:pt x="6883" y="12205"/>
                  <a:pt x="7515" y="12386"/>
                  <a:pt x="7293" y="12105"/>
                </a:cubicBezTo>
                <a:cubicBezTo>
                  <a:pt x="7043" y="11788"/>
                  <a:pt x="6367" y="12023"/>
                  <a:pt x="6077" y="12105"/>
                </a:cubicBezTo>
                <a:cubicBezTo>
                  <a:pt x="5345" y="12312"/>
                  <a:pt x="6028" y="12200"/>
                  <a:pt x="5705" y="12080"/>
                </a:cubicBezTo>
                <a:cubicBezTo>
                  <a:pt x="5329" y="11941"/>
                  <a:pt x="5074" y="12013"/>
                  <a:pt x="4688" y="12154"/>
                </a:cubicBezTo>
                <a:cubicBezTo>
                  <a:pt x="4351" y="12277"/>
                  <a:pt x="4335" y="12329"/>
                  <a:pt x="4142" y="12254"/>
                </a:cubicBezTo>
                <a:cubicBezTo>
                  <a:pt x="3696" y="12081"/>
                  <a:pt x="3691" y="11991"/>
                  <a:pt x="3150" y="12229"/>
                </a:cubicBezTo>
                <a:cubicBezTo>
                  <a:pt x="2909" y="12350"/>
                  <a:pt x="2864" y="12367"/>
                  <a:pt x="2729" y="12452"/>
                </a:cubicBezTo>
                <a:cubicBezTo>
                  <a:pt x="2632" y="12326"/>
                  <a:pt x="2745" y="12267"/>
                  <a:pt x="2530" y="12179"/>
                </a:cubicBezTo>
                <a:cubicBezTo>
                  <a:pt x="2168" y="12032"/>
                  <a:pt x="1529" y="12223"/>
                  <a:pt x="1389" y="12601"/>
                </a:cubicBezTo>
                <a:cubicBezTo>
                  <a:pt x="1397" y="12617"/>
                  <a:pt x="1406" y="12634"/>
                  <a:pt x="1414" y="12650"/>
                </a:cubicBezTo>
              </a:path>
              <a:path w="7046" h="3101">
                <a:moveTo>
                  <a:pt x="7417" y="13370"/>
                </a:moveTo>
                <a:cubicBezTo>
                  <a:pt x="7417" y="13573"/>
                  <a:pt x="7482" y="13749"/>
                  <a:pt x="7541" y="13940"/>
                </a:cubicBezTo>
                <a:cubicBezTo>
                  <a:pt x="7549" y="13967"/>
                  <a:pt x="7643" y="14246"/>
                  <a:pt x="7565" y="14064"/>
                </a:cubicBezTo>
              </a:path>
              <a:path w="7046" h="3101">
                <a:moveTo>
                  <a:pt x="7193" y="14015"/>
                </a:moveTo>
                <a:cubicBezTo>
                  <a:pt x="7400" y="13870"/>
                  <a:pt x="7605" y="13717"/>
                  <a:pt x="7838" y="13618"/>
                </a:cubicBezTo>
                <a:cubicBezTo>
                  <a:pt x="7863" y="13618"/>
                  <a:pt x="7871" y="13618"/>
                  <a:pt x="7863" y="13643"/>
                </a:cubicBezTo>
              </a:path>
              <a:path w="7046" h="3101">
                <a:moveTo>
                  <a:pt x="7689" y="13295"/>
                </a:moveTo>
                <a:cubicBezTo>
                  <a:pt x="7558" y="13582"/>
                  <a:pt x="7413" y="13865"/>
                  <a:pt x="7268" y="14139"/>
                </a:cubicBezTo>
                <a:cubicBezTo>
                  <a:pt x="7244" y="14184"/>
                  <a:pt x="7282" y="14088"/>
                  <a:pt x="7293" y="14039"/>
                </a:cubicBezTo>
              </a:path>
              <a:path w="7046" h="3101">
                <a:moveTo>
                  <a:pt x="7169" y="13593"/>
                </a:moveTo>
                <a:cubicBezTo>
                  <a:pt x="7386" y="13702"/>
                  <a:pt x="7565" y="13828"/>
                  <a:pt x="7764" y="13965"/>
                </a:cubicBezTo>
                <a:cubicBezTo>
                  <a:pt x="7804" y="13985"/>
                  <a:pt x="7810" y="13994"/>
                  <a:pt x="7838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51200" y="5081760"/>
            <a:ext cx="669960" cy="839520"/>
          </a:xfrm>
          <a:custGeom>
            <a:avLst/>
            <a:gdLst/>
            <a:ahLst/>
            <a:rect l="l" t="t" r="r" b="b"/>
            <a:pathLst>
              <a:path w="1861" h="2333">
                <a:moveTo>
                  <a:pt x="10691" y="14188"/>
                </a:moveTo>
                <a:cubicBezTo>
                  <a:pt x="10797" y="14103"/>
                  <a:pt x="10969" y="14138"/>
                  <a:pt x="10988" y="14312"/>
                </a:cubicBezTo>
                <a:cubicBezTo>
                  <a:pt x="11019" y="14595"/>
                  <a:pt x="10721" y="14810"/>
                  <a:pt x="10517" y="14784"/>
                </a:cubicBezTo>
                <a:cubicBezTo>
                  <a:pt x="10642" y="14573"/>
                  <a:pt x="10755" y="14330"/>
                  <a:pt x="11013" y="14560"/>
                </a:cubicBezTo>
                <a:cubicBezTo>
                  <a:pt x="11030" y="14585"/>
                  <a:pt x="11046" y="14610"/>
                  <a:pt x="11063" y="14635"/>
                </a:cubicBezTo>
              </a:path>
              <a:path w="1861" h="2333">
                <a:moveTo>
                  <a:pt x="11311" y="14114"/>
                </a:moveTo>
                <a:cubicBezTo>
                  <a:pt x="11510" y="14164"/>
                  <a:pt x="11729" y="14220"/>
                  <a:pt x="11584" y="14486"/>
                </a:cubicBezTo>
                <a:cubicBezTo>
                  <a:pt x="11472" y="14598"/>
                  <a:pt x="11446" y="14637"/>
                  <a:pt x="11336" y="14635"/>
                </a:cubicBezTo>
                <a:cubicBezTo>
                  <a:pt x="11326" y="14521"/>
                  <a:pt x="11358" y="14369"/>
                  <a:pt x="11534" y="14436"/>
                </a:cubicBezTo>
                <a:cubicBezTo>
                  <a:pt x="11605" y="14463"/>
                  <a:pt x="11679" y="14552"/>
                  <a:pt x="11708" y="14610"/>
                </a:cubicBezTo>
              </a:path>
              <a:path w="1861" h="2333">
                <a:moveTo>
                  <a:pt x="10418" y="15478"/>
                </a:moveTo>
                <a:cubicBezTo>
                  <a:pt x="10686" y="15575"/>
                  <a:pt x="10887" y="15695"/>
                  <a:pt x="11112" y="15875"/>
                </a:cubicBezTo>
                <a:cubicBezTo>
                  <a:pt x="11284" y="16013"/>
                  <a:pt x="11434" y="16130"/>
                  <a:pt x="11633" y="16222"/>
                </a:cubicBezTo>
                <a:cubicBezTo>
                  <a:pt x="11730" y="16267"/>
                  <a:pt x="11676" y="16189"/>
                  <a:pt x="11683" y="16049"/>
                </a:cubicBezTo>
              </a:path>
              <a:path w="1861" h="2333">
                <a:moveTo>
                  <a:pt x="12278" y="15056"/>
                </a:moveTo>
                <a:cubicBezTo>
                  <a:pt x="12130" y="15024"/>
                  <a:pt x="12051" y="15172"/>
                  <a:pt x="11832" y="15379"/>
                </a:cubicBezTo>
                <a:cubicBezTo>
                  <a:pt x="11494" y="15699"/>
                  <a:pt x="11033" y="15988"/>
                  <a:pt x="10740" y="16346"/>
                </a:cubicBezTo>
                <a:cubicBezTo>
                  <a:pt x="10728" y="16361"/>
                  <a:pt x="10705" y="16446"/>
                  <a:pt x="10691" y="16446"/>
                </a:cubicBezTo>
                <a:cubicBezTo>
                  <a:pt x="10691" y="16438"/>
                  <a:pt x="10691" y="16429"/>
                  <a:pt x="10691" y="164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76760" y="5661000"/>
            <a:ext cx="411120" cy="233280"/>
          </a:xfrm>
          <a:custGeom>
            <a:avLst/>
            <a:gdLst/>
            <a:ahLst/>
            <a:rect l="l" t="t" r="r" b="b"/>
            <a:pathLst>
              <a:path w="1142" h="646">
                <a:moveTo>
                  <a:pt x="10840" y="15825"/>
                </a:moveTo>
                <a:cubicBezTo>
                  <a:pt x="10840" y="15779"/>
                  <a:pt x="10903" y="15695"/>
                  <a:pt x="10964" y="15726"/>
                </a:cubicBezTo>
                <a:cubicBezTo>
                  <a:pt x="11277" y="15887"/>
                  <a:pt x="10891" y="16238"/>
                  <a:pt x="10740" y="16321"/>
                </a:cubicBezTo>
                <a:cubicBezTo>
                  <a:pt x="10606" y="16366"/>
                  <a:pt x="10570" y="16390"/>
                  <a:pt x="10492" y="16321"/>
                </a:cubicBezTo>
                <a:cubicBezTo>
                  <a:pt x="10543" y="16118"/>
                  <a:pt x="10692" y="16025"/>
                  <a:pt x="10914" y="16148"/>
                </a:cubicBezTo>
                <a:cubicBezTo>
                  <a:pt x="10996" y="16194"/>
                  <a:pt x="11002" y="16266"/>
                  <a:pt x="11063" y="16297"/>
                </a:cubicBezTo>
              </a:path>
              <a:path w="1142" h="646">
                <a:moveTo>
                  <a:pt x="11559" y="15726"/>
                </a:moveTo>
                <a:cubicBezTo>
                  <a:pt x="11350" y="15816"/>
                  <a:pt x="11256" y="15857"/>
                  <a:pt x="11485" y="16024"/>
                </a:cubicBezTo>
                <a:cubicBezTo>
                  <a:pt x="11596" y="16090"/>
                  <a:pt x="11637" y="16100"/>
                  <a:pt x="11609" y="16197"/>
                </a:cubicBezTo>
                <a:cubicBezTo>
                  <a:pt x="11530" y="16276"/>
                  <a:pt x="11499" y="16301"/>
                  <a:pt x="11410" y="16272"/>
                </a:cubicBezTo>
                <a:cubicBezTo>
                  <a:pt x="11439" y="16052"/>
                  <a:pt x="11482" y="15948"/>
                  <a:pt x="11633" y="157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55840" y="5688000"/>
            <a:ext cx="473040" cy="258840"/>
          </a:xfrm>
          <a:custGeom>
            <a:avLst/>
            <a:gdLst/>
            <a:ahLst/>
            <a:rect l="l" t="t" r="r" b="b"/>
            <a:pathLst>
              <a:path w="1316" h="720">
                <a:moveTo>
                  <a:pt x="4390" y="15900"/>
                </a:moveTo>
                <a:cubicBezTo>
                  <a:pt x="4370" y="15944"/>
                  <a:pt x="4556" y="15803"/>
                  <a:pt x="4638" y="15949"/>
                </a:cubicBezTo>
                <a:cubicBezTo>
                  <a:pt x="4786" y="16214"/>
                  <a:pt x="4390" y="16501"/>
                  <a:pt x="4167" y="16520"/>
                </a:cubicBezTo>
                <a:cubicBezTo>
                  <a:pt x="4126" y="16503"/>
                  <a:pt x="4084" y="16487"/>
                  <a:pt x="4043" y="16470"/>
                </a:cubicBezTo>
                <a:cubicBezTo>
                  <a:pt x="4091" y="16266"/>
                  <a:pt x="4265" y="16173"/>
                  <a:pt x="4490" y="16222"/>
                </a:cubicBezTo>
                <a:cubicBezTo>
                  <a:pt x="4702" y="16268"/>
                  <a:pt x="4588" y="16476"/>
                  <a:pt x="4688" y="16396"/>
                </a:cubicBezTo>
              </a:path>
              <a:path w="1316" h="720">
                <a:moveTo>
                  <a:pt x="5135" y="15801"/>
                </a:moveTo>
                <a:cubicBezTo>
                  <a:pt x="4995" y="15894"/>
                  <a:pt x="4952" y="15917"/>
                  <a:pt x="4911" y="16024"/>
                </a:cubicBezTo>
                <a:cubicBezTo>
                  <a:pt x="5033" y="16104"/>
                  <a:pt x="5213" y="16071"/>
                  <a:pt x="5358" y="16148"/>
                </a:cubicBezTo>
                <a:cubicBezTo>
                  <a:pt x="5291" y="16273"/>
                  <a:pt x="5016" y="16496"/>
                  <a:pt x="5060" y="16148"/>
                </a:cubicBezTo>
                <a:cubicBezTo>
                  <a:pt x="5066" y="16101"/>
                  <a:pt x="5265" y="15794"/>
                  <a:pt x="5209" y="15850"/>
                </a:cubicBezTo>
                <a:cubicBezTo>
                  <a:pt x="5201" y="15858"/>
                  <a:pt x="5192" y="15867"/>
                  <a:pt x="5184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05840" y="2741760"/>
            <a:ext cx="339840" cy="54000"/>
          </a:xfrm>
          <a:custGeom>
            <a:avLst/>
            <a:gdLst/>
            <a:ahLst/>
            <a:rect l="l" t="t" r="r" b="b"/>
            <a:pathLst>
              <a:path w="943" h="150">
                <a:moveTo>
                  <a:pt x="22796" y="7640"/>
                </a:moveTo>
                <a:cubicBezTo>
                  <a:pt x="22929" y="7640"/>
                  <a:pt x="23056" y="7617"/>
                  <a:pt x="23192" y="7615"/>
                </a:cubicBezTo>
                <a:cubicBezTo>
                  <a:pt x="23266" y="7614"/>
                  <a:pt x="23819" y="7605"/>
                  <a:pt x="23341" y="7665"/>
                </a:cubicBezTo>
                <a:cubicBezTo>
                  <a:pt x="23165" y="7687"/>
                  <a:pt x="22919" y="7664"/>
                  <a:pt x="22920" y="7714"/>
                </a:cubicBezTo>
                <a:cubicBezTo>
                  <a:pt x="23202" y="7714"/>
                  <a:pt x="23461" y="7723"/>
                  <a:pt x="23738" y="7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0920" y="3990960"/>
            <a:ext cx="930240" cy="1474920"/>
          </a:xfrm>
          <a:custGeom>
            <a:avLst/>
            <a:gdLst/>
            <a:ahLst/>
            <a:rect l="l" t="t" r="r" b="b"/>
            <a:pathLst>
              <a:path w="2580" h="4093">
                <a:moveTo>
                  <a:pt x="9699" y="11088"/>
                </a:moveTo>
                <a:cubicBezTo>
                  <a:pt x="9824" y="11209"/>
                  <a:pt x="9958" y="11330"/>
                  <a:pt x="10071" y="11485"/>
                </a:cubicBezTo>
                <a:cubicBezTo>
                  <a:pt x="10429" y="11975"/>
                  <a:pt x="10784" y="12488"/>
                  <a:pt x="11112" y="12998"/>
                </a:cubicBezTo>
                <a:cubicBezTo>
                  <a:pt x="11479" y="13569"/>
                  <a:pt x="11806" y="14174"/>
                  <a:pt x="12105" y="14784"/>
                </a:cubicBezTo>
                <a:cubicBezTo>
                  <a:pt x="12122" y="14818"/>
                  <a:pt x="12224" y="15138"/>
                  <a:pt x="12278" y="15180"/>
                </a:cubicBezTo>
                <a:cubicBezTo>
                  <a:pt x="12278" y="15139"/>
                  <a:pt x="12278" y="15114"/>
                  <a:pt x="12278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32120" y="4037040"/>
            <a:ext cx="822240" cy="1527120"/>
          </a:xfrm>
          <a:custGeom>
            <a:avLst/>
            <a:gdLst/>
            <a:ahLst/>
            <a:rect l="l" t="t" r="r" b="b"/>
            <a:pathLst>
              <a:path w="2283" h="4242">
                <a:moveTo>
                  <a:pt x="12650" y="11286"/>
                </a:moveTo>
                <a:cubicBezTo>
                  <a:pt x="12607" y="11330"/>
                  <a:pt x="12628" y="11256"/>
                  <a:pt x="12601" y="11311"/>
                </a:cubicBezTo>
                <a:cubicBezTo>
                  <a:pt x="12325" y="11886"/>
                  <a:pt x="12046" y="12440"/>
                  <a:pt x="11733" y="12998"/>
                </a:cubicBezTo>
                <a:cubicBezTo>
                  <a:pt x="11287" y="13793"/>
                  <a:pt x="10884" y="14624"/>
                  <a:pt x="10418" y="15404"/>
                </a:cubicBezTo>
                <a:cubicBezTo>
                  <a:pt x="10393" y="15429"/>
                  <a:pt x="10385" y="15437"/>
                  <a:pt x="10368" y="154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work:</a:t>
            </a:r>
            <a:br>
              <a:rPr sz="3900"/>
            </a:b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PW pg. 71 # 1-1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02:10:28Z</dcterms:created>
  <dc:creator>ccps</dc:creator>
  <dc:description/>
  <dc:language>en-US</dc:language>
  <cp:lastModifiedBy>deanne elizabeth mcgrath</cp:lastModifiedBy>
  <dcterms:modified xsi:type="dcterms:W3CDTF">2011-12-07T20:16:12Z</dcterms:modified>
  <cp:revision>7</cp:revision>
  <dc:subject/>
  <dc:title>1.2.07                    Section 6.3</dc:title>
</cp:coreProperties>
</file>